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DD4-1F78-4815-9593-57CEEE1C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1CA-4774-4211-8FE8-1D60AAA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4CC-727A-4A8B-B5B0-5281F6B9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36F-E2FA-48CC-A40C-12BAD0F1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EFB5-F0B6-43F4-8E71-4C74AB57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98BF-2E4F-4612-A38F-3CBB4FA9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02B3-A83B-47AF-97F7-92765D32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464A-5018-4408-86D8-DDD0CD0F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C693-E136-4607-9358-C87BC352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3897-7F4D-4922-9576-83854478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7635-937F-4096-B63A-D6DFBBFD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97B-0BBC-4B91-88BF-3257D7E4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BECF-BECC-4EE7-A709-8FB004F2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AB0-E2E2-4157-9E69-96FB37F4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894C-FE30-4FAA-B1CF-BAC39481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D8B-6F1E-4860-A137-568641E3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DA49-98EB-4D81-98F2-2C50725C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1CAFF-64C2-44AA-B1C4-54AE5759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EE51D-3D25-49E5-AD5D-0BDC79AD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35E7D-D4AC-439C-B174-3EE1A696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33E3A-0ECC-4E0A-AD02-CB3E4B2B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77839-4DDE-43EA-A9F7-EA0D7AB3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FB0-1E2D-4BBE-A6D6-9F530ACB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53201-791C-4C74-8B60-7C981A39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9B555-B1D2-4470-A51D-40425601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95F84-9ECF-4CFE-BB7D-D321A90D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1CDAF-BF0B-4F27-81D3-0FB8732F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491B1-A09B-44A9-97E4-EB5778AD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6D105-1F15-48AA-B089-47EC886E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1A649-162C-4FE3-8289-8E6E9A0F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3F1A-9AEB-4D90-8B16-80DEBF8C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5117-ED05-448C-8620-861B403C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24F8-D906-431E-BB04-A63D5DBE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0651-133E-4FD3-B1AC-3B1F5B76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C7D1F-62FA-47C5-8C90-19E57563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0073-8FA2-4E50-8C14-975C8155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E105-B321-4F6D-B887-11E8C393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3A0B-FA1A-4BBE-A6DA-7A801B4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74B00-062E-470B-AB66-7555A11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5E3E5-96FC-4DE5-9855-333F251F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F970-64F7-4B18-9123-A606E9DB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4620F-AD6A-4BD8-BB67-06A4F3A1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C583-4333-4107-B1AE-94F5C6E4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714CF-4618-48C8-8F6F-AAA335DB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569-60CC-445F-97F6-D8A3424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E3202-9DE0-41B0-8B25-EDDB4AD2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6E1E9-23F8-4AC0-A8B8-DEB90FC7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7AFE1-8962-4DD1-A9A6-AF3CDC56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88386-30FF-4E1C-B5C2-FF538F2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C07B2-D388-4C8C-AFE3-3693C6A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FDAFF-13B4-4292-8DAF-7C798105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EF803-AA34-4E4F-B7A0-646364C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6696C-E2BD-4A7E-9076-C1F662A5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FA0BC-15C8-41BD-AF3F-ACD50812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646E0-5AFA-46C2-BC29-CB43B2B9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4B6-3E29-4760-BEBE-798ED77D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78AD9-548D-4619-8720-62CC1149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69C1B-22AA-42A9-8562-6429BE59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1BFA2-F2B9-4DA0-AACD-EB88DCF9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19CF46-EA98-421A-8987-A4B9229F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CA309-80A6-4D5E-99B5-4731D0E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C5979F-CAD8-47C7-92B9-0FCBAE4F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8EFD2-F42E-4EB9-9645-2AA5386D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CCDE40-557F-4C74-AFC6-B3BEA1D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8AE4D-C857-40E8-97CE-238FA802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8A15D-C812-4D81-8466-509D56DC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FF6-5185-4A3E-84C8-CFFB7C67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69A0C-41B0-46EC-9D88-154CC72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4EDF2-791D-43F3-BBF6-4F857B89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9FB6B-F879-4304-B14C-E7EDBC0A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1665B-C32A-4CD4-867C-53A2F50C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3CA84-A286-414D-8DF4-8AB11D01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44245-2BFE-4FBD-8276-54B4914A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5A6DE-F81E-438F-9F35-6E311C21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C3EB0-ED63-4172-B565-E10B33E8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E51DD-56C1-428D-9C61-AA0EF9CB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F63036-4129-464F-BA83-C1104C0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70D-FFB2-45AC-9CC6-D679BD77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4DD5C-A6E8-4002-9979-21C2CBF5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5806DE-ABD3-4BD0-ACA1-73A6D9A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CE13B-7E4E-4F8C-9FA0-DDB72BA6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61BE3-3010-4A9C-9D9F-F4ACF36C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134D3-1461-4629-A907-99168594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3CC-036A-41E0-8F33-0C76235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B58B-2611-4565-91E3-7C02E365B6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A1BA-61F9-4E72-881F-42EF1D2FEB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70B-D4B3-4346-90EF-16112606DB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689A-378F-45BF-8A27-B9BF6689234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A1B4-FB81-4938-B0B8-8FCC977934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E027-B442-41AE-81D5-61C8256977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EBE8-861D-4984-90DF-0E15B6F6C1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PA ITU KUALITAS PL ??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21:39:09Z</dcterms:created>
  <dc:creator>hero</dc:creator>
  <dc:description/>
  <dc:language>en-US</dc:language>
  <cp:lastModifiedBy>hero</cp:lastModifiedBy>
  <dcterms:modified xsi:type="dcterms:W3CDTF">2012-02-27T21:40:28Z</dcterms:modified>
  <cp:revision>1</cp:revision>
  <dc:subject/>
  <dc:title>Apa itu Kualitas PL ???</dc:title>
</cp:coreProperties>
</file>