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AFDBB-198E-4F50-9FB5-31EBB3D72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9DA0-6CE7-414B-9955-6BD518E02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7E70E-56B9-4FFF-9C82-0B9F8B230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20250-6530-4F38-BED7-035BD548A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87E72-0238-458C-86D5-7344FD43B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AF3CB-2EDD-4A2D-AFF7-1029842CA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37046-5E86-4EB8-B680-1E0BD2D49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5C202-F935-4E2B-87D5-C608F53EE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03016-DB64-4357-9E3B-39451F31F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ED4FB-2C66-4D9A-9C08-2C7321028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C85BB-B74B-442A-8186-4D67DA1C8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82969-DCD2-4F97-BA30-F31CDB7CE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5276F-4FCD-4278-9C15-51EDFAD5E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8AFC6-6BBB-4020-A04D-F3CCB5BAB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15A0C-4D26-468B-8E5B-01FA43CDE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86219-78ED-47F9-9447-F5D91BE61F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7A728-261A-4C0D-83DA-CE66CC0A5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B23B7A-FCF4-42DD-AB81-929C7FD315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4DCDD-F5FC-4209-97ED-4E6D70126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04B00-C954-4F8F-9A3C-2552580A2E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7C02F-08CA-4344-BE25-0F4E3CA5F8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7DC93-175A-463F-933A-6D02ABBE8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90FDA-7065-48B5-8BC9-26540C9CF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23B99-CD97-47C8-8AD2-9042C37B04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9C31B-8BB8-4F5B-A46C-4103496C4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8B562-1C67-4462-92FF-FA4E80CB4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5F817-4106-4327-A4E9-BAA26A17D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D2A58-29B5-4763-BE06-598D3E8F4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857F62-D702-42FF-B627-C502636415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50B132-37EF-4303-BF8C-25A93042B4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D76FC3-A090-4936-BBB5-29D7002DD3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7D72F0-4123-44F9-9C6B-727169233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643AE9-7781-4585-9593-4607DC788D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1EE38-0971-4C17-8D5D-DC5DCE5C3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E14D2-2176-4722-9D43-DA1020D8E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2111B9-BADD-4A11-BAE3-D264ABDA5A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B0D693-5C28-45C0-B628-E052D5ACC0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6BF69-8E65-4D1F-A000-6A4B2438B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915DF-7F10-4558-8276-47BE6E14F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FFAC4-3527-465F-872A-F28E4C348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B4BE0-BB45-4338-AA7D-EFFC209C6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87ABA6-C3C4-4BD3-B9CF-B82A6A9C96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33F298-1E74-4B2D-9558-C8C501880B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106559-E925-4D28-A314-6D6B402F90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1D5D3-8332-4315-8A2A-454A0A796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FBC1AB-E2C2-4C48-9650-D494CB3145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42F418-6DAA-4EBE-A636-8CF74A250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C0206-FACE-4318-A7B4-48B09C5101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664C3F-E9F9-4990-ABD3-4AC3AFEC8B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80F9B8-3B19-421F-BD67-9CA1AB59D5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3588D9-7D0C-4F9D-8584-D6B26A830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AD8FF-1FFD-47F8-9164-246DE1CA1E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2F233-A679-4F60-A865-2DCBDACD2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E58B2-2277-480A-8CC5-F1D588F2B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21561B-43E6-4884-9578-C88830B46A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AEF7D-B62C-4196-AC1D-FDF5E5CDB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D58527-341F-45FE-9E9C-F95D88880C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3DD69-D5FA-4BAE-8414-B5B370D6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9F8E-BDE0-4920-804C-4AFF13165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D25E1-F90D-48F3-9FA2-CC43A5C76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E76B-8247-4884-8348-E20702D17A83}"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B6A1-807A-45D6-9389-F232E319EBE2}"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DEC6-9B28-4EDC-B44D-75437F17FD58}"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7F8C-EB69-48F7-953C-D5D7E5591962}"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4688-C338-4F18-B656-6E8C2E28BC36}"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620800" y="530280"/>
            <a:ext cx="6492960" cy="153648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12760" y="-237960"/>
            <a:ext cx="7493040" cy="1158840"/>
          </a:xfrm>
          <a:prstGeom prst="rect">
            <a:avLst/>
          </a:prstGeom>
          <a:ln w="0">
            <a:noFill/>
          </a:ln>
        </p:spPr>
      </p:pic>
      <p:sp>
        <p:nvSpPr>
          <p:cNvPr id="223" name=""/>
          <p:cNvSpPr txBox="1"/>
          <p:nvPr/>
        </p:nvSpPr>
        <p:spPr>
          <a:xfrm>
            <a:off x="457200" y="1066320"/>
            <a:ext cx="8686800" cy="39625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SISTEM SQA DAN ARSITEKTUR SQA</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2 KOMPONEN PRA-PROYEK</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3 KOMPONEN SIKLUS HIDUP PROYEK SOFTWARE</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4 KOMPONEN INFRASTRUKTUR PENCEGAHAN KESALAHAN</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5 PENGELOLAAN KOMPONEN SQA</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6 STANDAR SQA, SISTEM SERTIFIKASI DAN KOMPONEN PENILAIAN</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7 ORGANISASI SQA (KOMPONEN MANUSIA)</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8 PERTIMBANGAN PEDOMAN PEMBUATAN SISTEM ORGANISASI SQA</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244440" y="-237960"/>
            <a:ext cx="9394920" cy="1158840"/>
          </a:xfrm>
          <a:prstGeom prst="rect">
            <a:avLst/>
          </a:prstGeom>
          <a:ln w="0">
            <a:noFill/>
          </a:ln>
        </p:spPr>
      </p:pic>
      <p:sp>
        <p:nvSpPr>
          <p:cNvPr id="225" name=""/>
          <p:cNvSpPr txBox="1"/>
          <p:nvPr/>
        </p:nvSpPr>
        <p:spPr>
          <a:xfrm>
            <a:off x="152280" y="1020600"/>
            <a:ext cx="7848720" cy="5685120"/>
          </a:xfrm>
          <a:prstGeom prst="rect">
            <a:avLst/>
          </a:prstGeom>
          <a:noFill/>
          <a:ln w="0">
            <a:noFill/>
          </a:ln>
        </p:spPr>
        <p:txBody>
          <a:bodyPr anchor="t">
            <a:normAutofit/>
          </a:bodyPr>
          <a:p>
            <a:pPr marL="343080" indent="-3430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mponen Kualitas Pra-proyek</a:t>
            </a: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Untuk menjamin bahwa :</a:t>
            </a: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200" spc="-1" strike="noStrike">
                <a:solidFill>
                  <a:srgbClr val="000000"/>
                </a:solidFill>
                <a:latin typeface="Trebuchet MS"/>
              </a:rPr>
              <a:t>a) Komitmen proyek telah didefinisikan secara memadai mempertimbangkan sumber daya yang dibutuhkan, jadwal dan anggaran.</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 pengembangan dan rencana kualitas telah benar ditentukan.</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 Komponen kualitas siklus hidup proyek</a:t>
            </a: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Proyek life cycle terdiri dari dua tahap : pengembangan tahap life cycle dan operasi tahap pemeliharaan.</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Komponen pengembangan tahap life cycle mendeteksi desain dan kesalahan program. Komponen – komponennya dibagi dalam 3 sub-kelas:</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a) Review</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  Pendapat ahli</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c) Pengujian software</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 Komponen infrastruktur pencegahan kesalahan dan perbaikan</a:t>
            </a: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Tujuan utama dari komponen ini, yang diterapkan diseluruh organisasi, adalah untuk menghilangkan atau setidaknya mengurangi tingkat kesalahan, berdasarkan akumulasi pengalaman SQA organisasi.</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51920" y="228240"/>
            <a:ext cx="8001000" cy="6227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 Komponen pengelolaan kualitas software</a:t>
            </a: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Kelas komponen ini ditujukan terhadap beberapa tujuan, yang utama yang menjadi kontrol pembangunan dan pemeliharaan kegiatan dan pengenalan awal manajerial mendukung tindakan yang terutama mencegah dan meminimalkan jadwal dan anggaran kegagalan hasil mereka.</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Komponen standarisasi, sertifikasi, dan penilaian SQA</a:t>
            </a: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Komponen ini menerapkan professional internasional dan standar manajerial dalam organisasi. Tujuan utama dari kelas ini adalah:</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a) pemanfaatan pengetahuan profesional internasional</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 peningkatan koordinasi kualitas sistem organisasi dengan organisasi lain.</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c) penilaian prestasi kualitas sistem menurut skala umum</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erbagai standar dapat diklasifikasikan menjadi 2 kelompok utama :</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1) standar manajemen mutu</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2) Standar proses proyek</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 Komponen manusia – mengorganisasi SQA</a:t>
            </a:r>
            <a:endParaRPr b="0" lang="en-US" sz="14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200" spc="-1" strike="noStrike">
                <a:solidFill>
                  <a:srgbClr val="000000"/>
                </a:solidFill>
                <a:latin typeface="Trebuchet MS"/>
              </a:rPr>
              <a:t>Dasar organisasi SQA termasuk manajer, pengujian personal, unit dan praktisi SQA tertarik pada kualitas software. Semua aktor  berkontribusi terhadap software; tujuan utama mereka adalah untuk memulai dan mendukung pelasksanaan komponen SQA, mendeteksi penyimpangan  dari prosedur SQA dan metodologi, dan menyarankan perbaikan.</a:t>
            </a:r>
            <a:endParaRPr b="0" lang="en-US" sz="1200" spc="-1" strike="noStrike">
              <a:solidFill>
                <a:srgbClr val="000000"/>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12760" y="-542880"/>
            <a:ext cx="7493040" cy="1158840"/>
          </a:xfrm>
          <a:prstGeom prst="rect">
            <a:avLst/>
          </a:prstGeom>
          <a:ln w="0">
            <a:noFill/>
          </a:ln>
        </p:spPr>
      </p:pic>
      <p:sp>
        <p:nvSpPr>
          <p:cNvPr id="22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9" name="Picture 2" descr=""/>
          <p:cNvPicPr/>
          <p:nvPr/>
        </p:nvPicPr>
        <p:blipFill>
          <a:blip r:embed="rId2"/>
          <a:srcRect l="3870" t="45626" r="16454" b="28752"/>
          <a:stretch/>
        </p:blipFill>
        <p:spPr>
          <a:xfrm>
            <a:off x="0" y="1371600"/>
            <a:ext cx="9144000" cy="495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542880"/>
            <a:ext cx="7493040" cy="115884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2" name="Picture 2" descr=""/>
          <p:cNvPicPr/>
          <p:nvPr/>
        </p:nvPicPr>
        <p:blipFill>
          <a:blip r:embed="rId2"/>
          <a:srcRect l="3870" t="45626" r="16454" b="28752"/>
          <a:stretch/>
        </p:blipFill>
        <p:spPr>
          <a:xfrm>
            <a:off x="0" y="1371600"/>
            <a:ext cx="9144000" cy="4952880"/>
          </a:xfrm>
          <a:prstGeom prst="rect">
            <a:avLst/>
          </a:prstGeom>
          <a:ln w="0">
            <a:noFill/>
          </a:ln>
        </p:spPr>
      </p:pic>
      <p:sp>
        <p:nvSpPr>
          <p:cNvPr id="233" name="Rounded Rectangle 4"/>
          <p:cNvSpPr/>
          <p:nvPr/>
        </p:nvSpPr>
        <p:spPr>
          <a:xfrm>
            <a:off x="2743200" y="1905120"/>
            <a:ext cx="1828800" cy="4572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rtimbangan kontrak (bab5)</a:t>
            </a:r>
            <a:endParaRPr b="0" lang="en-US" sz="1200" spc="-1" strike="noStrike">
              <a:solidFill>
                <a:srgbClr val="000000"/>
              </a:solidFill>
              <a:latin typeface="Arial"/>
            </a:endParaRPr>
          </a:p>
        </p:txBody>
      </p:sp>
      <p:sp>
        <p:nvSpPr>
          <p:cNvPr id="234" name="Rounded Rectangle 5"/>
          <p:cNvSpPr/>
          <p:nvPr/>
        </p:nvSpPr>
        <p:spPr>
          <a:xfrm>
            <a:off x="4648320" y="1752480"/>
            <a:ext cx="2438280" cy="60984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royek perencanaan pengembangan &amp; perencanaan kualitas(bab5)</a:t>
            </a:r>
            <a:endParaRPr b="0" lang="en-US" sz="1200" spc="-1" strike="noStrike">
              <a:solidFill>
                <a:srgbClr val="000000"/>
              </a:solidFill>
              <a:latin typeface="Arial"/>
            </a:endParaRPr>
          </a:p>
        </p:txBody>
      </p:sp>
      <p:sp>
        <p:nvSpPr>
          <p:cNvPr id="235" name="Rounded Rectangle 6"/>
          <p:cNvSpPr/>
          <p:nvPr/>
        </p:nvSpPr>
        <p:spPr>
          <a:xfrm>
            <a:off x="3124080" y="2438280"/>
            <a:ext cx="2971800" cy="2286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Komponen proyek siklus hidup SQA</a:t>
            </a:r>
            <a:endParaRPr b="0" lang="en-US" sz="1200" spc="-1" strike="noStrike">
              <a:solidFill>
                <a:srgbClr val="000000"/>
              </a:solidFill>
              <a:latin typeface="Arial"/>
            </a:endParaRPr>
          </a:p>
        </p:txBody>
      </p:sp>
      <p:sp>
        <p:nvSpPr>
          <p:cNvPr id="236" name="Rounded Rectangle 7"/>
          <p:cNvSpPr/>
          <p:nvPr/>
        </p:nvSpPr>
        <p:spPr>
          <a:xfrm rot="16200000">
            <a:off x="399960" y="3429000"/>
            <a:ext cx="1828800" cy="4572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rmal Desain Review (bab8.2)</a:t>
            </a:r>
            <a:endParaRPr b="0" lang="en-US" sz="1200" spc="-1" strike="noStrike">
              <a:solidFill>
                <a:srgbClr val="000000"/>
              </a:solidFill>
              <a:latin typeface="Arial"/>
            </a:endParaRPr>
          </a:p>
        </p:txBody>
      </p:sp>
      <p:sp>
        <p:nvSpPr>
          <p:cNvPr id="237" name="Rounded Rectangle 8"/>
          <p:cNvSpPr/>
          <p:nvPr/>
        </p:nvSpPr>
        <p:spPr>
          <a:xfrm rot="16200000">
            <a:off x="1724040" y="3429000"/>
            <a:ext cx="1828800" cy="4572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injauan Pe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bab8.3)</a:t>
            </a:r>
            <a:endParaRPr b="0" lang="en-US" sz="1200" spc="-1" strike="noStrike">
              <a:solidFill>
                <a:srgbClr val="000000"/>
              </a:solidFill>
              <a:latin typeface="Arial"/>
            </a:endParaRPr>
          </a:p>
        </p:txBody>
      </p:sp>
      <p:sp>
        <p:nvSpPr>
          <p:cNvPr id="238" name="Rounded Rectangle 9"/>
          <p:cNvSpPr/>
          <p:nvPr/>
        </p:nvSpPr>
        <p:spPr>
          <a:xfrm rot="16200000">
            <a:off x="3048120" y="3429000"/>
            <a:ext cx="1828800" cy="4572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ndapat Ahl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bab8.5)</a:t>
            </a:r>
            <a:endParaRPr b="0" lang="en-US" sz="1200" spc="-1" strike="noStrike">
              <a:solidFill>
                <a:srgbClr val="000000"/>
              </a:solidFill>
              <a:latin typeface="Arial"/>
            </a:endParaRPr>
          </a:p>
        </p:txBody>
      </p:sp>
      <p:sp>
        <p:nvSpPr>
          <p:cNvPr id="239" name="Rounded Rectangle 10"/>
          <p:cNvSpPr/>
          <p:nvPr/>
        </p:nvSpPr>
        <p:spPr>
          <a:xfrm rot="16200000">
            <a:off x="4362480" y="3429000"/>
            <a:ext cx="1828800" cy="4572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ngujian Sofw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bab9-10)</a:t>
            </a:r>
            <a:endParaRPr b="0" lang="en-US" sz="1200" spc="-1" strike="noStrike">
              <a:solidFill>
                <a:srgbClr val="000000"/>
              </a:solidFill>
              <a:latin typeface="Arial"/>
            </a:endParaRPr>
          </a:p>
        </p:txBody>
      </p:sp>
      <p:sp>
        <p:nvSpPr>
          <p:cNvPr id="240" name="Rounded Rectangle 11"/>
          <p:cNvSpPr/>
          <p:nvPr/>
        </p:nvSpPr>
        <p:spPr>
          <a:xfrm rot="16200000">
            <a:off x="5686560" y="3429000"/>
            <a:ext cx="1828800" cy="4572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meliharaan Software (bab11)</a:t>
            </a:r>
            <a:endParaRPr b="0" lang="en-US" sz="1200" spc="-1" strike="noStrike">
              <a:solidFill>
                <a:srgbClr val="000000"/>
              </a:solidFill>
              <a:latin typeface="Arial"/>
            </a:endParaRPr>
          </a:p>
        </p:txBody>
      </p:sp>
      <p:sp>
        <p:nvSpPr>
          <p:cNvPr id="241" name="Rounded Rectangle 12"/>
          <p:cNvSpPr/>
          <p:nvPr/>
        </p:nvSpPr>
        <p:spPr>
          <a:xfrm rot="16200000">
            <a:off x="7000920" y="3429000"/>
            <a:ext cx="1828800" cy="4572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artisipasi Eksternal SQA (bab12)</a:t>
            </a:r>
            <a:endParaRPr b="0" lang="en-US" sz="1200" spc="-1" strike="noStrike">
              <a:solidFill>
                <a:srgbClr val="000000"/>
              </a:solidFill>
              <a:latin typeface="Arial"/>
            </a:endParaRPr>
          </a:p>
        </p:txBody>
      </p:sp>
      <p:sp>
        <p:nvSpPr>
          <p:cNvPr id="242" name="Rounded Rectangle 13"/>
          <p:cNvSpPr/>
          <p:nvPr/>
        </p:nvSpPr>
        <p:spPr>
          <a:xfrm>
            <a:off x="1371600" y="4610160"/>
            <a:ext cx="2971800" cy="2286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Komponen infrastruktur kualitas</a:t>
            </a:r>
            <a:endParaRPr b="0" lang="en-US" sz="1200" spc="-1" strike="noStrike">
              <a:solidFill>
                <a:srgbClr val="000000"/>
              </a:solidFill>
              <a:latin typeface="Arial"/>
            </a:endParaRPr>
          </a:p>
        </p:txBody>
      </p:sp>
      <p:sp>
        <p:nvSpPr>
          <p:cNvPr id="243" name="Rounded Rectangle 14"/>
          <p:cNvSpPr/>
          <p:nvPr/>
        </p:nvSpPr>
        <p:spPr>
          <a:xfrm>
            <a:off x="5562720" y="4572000"/>
            <a:ext cx="1600200" cy="25704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najemen Kualitas</a:t>
            </a:r>
            <a:endParaRPr b="0" lang="en-US" sz="1200" spc="-1" strike="noStrike">
              <a:solidFill>
                <a:srgbClr val="000000"/>
              </a:solidFill>
              <a:latin typeface="Arial"/>
            </a:endParaRPr>
          </a:p>
        </p:txBody>
      </p:sp>
      <p:sp>
        <p:nvSpPr>
          <p:cNvPr id="244" name="Rounded Rectangle 15"/>
          <p:cNvSpPr/>
          <p:nvPr/>
        </p:nvSpPr>
        <p:spPr>
          <a:xfrm>
            <a:off x="7772400" y="4572000"/>
            <a:ext cx="990720" cy="25704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tandart</a:t>
            </a:r>
            <a:endParaRPr b="0" lang="en-US" sz="1200" spc="-1" strike="noStrike">
              <a:solidFill>
                <a:srgbClr val="000000"/>
              </a:solidFill>
              <a:latin typeface="Arial"/>
            </a:endParaRPr>
          </a:p>
        </p:txBody>
      </p:sp>
      <p:sp>
        <p:nvSpPr>
          <p:cNvPr id="245" name="Rounded Rectangle 16"/>
          <p:cNvSpPr/>
          <p:nvPr/>
        </p:nvSpPr>
        <p:spPr>
          <a:xfrm>
            <a:off x="152280" y="4876920"/>
            <a:ext cx="76212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Prosedu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bab14)</a:t>
            </a:r>
            <a:endParaRPr b="0" lang="en-US" sz="1000" spc="-1" strike="noStrike">
              <a:solidFill>
                <a:srgbClr val="000000"/>
              </a:solidFill>
              <a:latin typeface="Arial"/>
            </a:endParaRPr>
          </a:p>
        </p:txBody>
      </p:sp>
      <p:sp>
        <p:nvSpPr>
          <p:cNvPr id="246" name="Rounded Rectangle 17"/>
          <p:cNvSpPr/>
          <p:nvPr/>
        </p:nvSpPr>
        <p:spPr>
          <a:xfrm>
            <a:off x="942840" y="4876920"/>
            <a:ext cx="76212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ukungan peralata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ab15)</a:t>
            </a:r>
            <a:endParaRPr b="0" lang="en-US" sz="900" spc="-1" strike="noStrike">
              <a:solidFill>
                <a:srgbClr val="000000"/>
              </a:solidFill>
              <a:latin typeface="Arial"/>
            </a:endParaRPr>
          </a:p>
        </p:txBody>
      </p:sp>
      <p:sp>
        <p:nvSpPr>
          <p:cNvPr id="247" name="Rounded Rectangle 18"/>
          <p:cNvSpPr/>
          <p:nvPr/>
        </p:nvSpPr>
        <p:spPr>
          <a:xfrm>
            <a:off x="1752480" y="4876920"/>
            <a:ext cx="76212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latiha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ab16)</a:t>
            </a:r>
            <a:endParaRPr b="0" lang="en-US" sz="900" spc="-1" strike="noStrike">
              <a:solidFill>
                <a:srgbClr val="000000"/>
              </a:solidFill>
              <a:latin typeface="Arial"/>
            </a:endParaRPr>
          </a:p>
        </p:txBody>
      </p:sp>
      <p:sp>
        <p:nvSpPr>
          <p:cNvPr id="248" name="Rounded Rectangle 19"/>
          <p:cNvSpPr/>
          <p:nvPr/>
        </p:nvSpPr>
        <p:spPr>
          <a:xfrm>
            <a:off x="2590920" y="4876920"/>
            <a:ext cx="76176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Tindakan pencegaha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ab17)</a:t>
            </a:r>
            <a:endParaRPr b="0" lang="en-US" sz="900" spc="-1" strike="noStrike">
              <a:solidFill>
                <a:srgbClr val="000000"/>
              </a:solidFill>
              <a:latin typeface="Arial"/>
            </a:endParaRPr>
          </a:p>
        </p:txBody>
      </p:sp>
      <p:sp>
        <p:nvSpPr>
          <p:cNvPr id="249" name="Rounded Rectangle 20"/>
          <p:cNvSpPr/>
          <p:nvPr/>
        </p:nvSpPr>
        <p:spPr>
          <a:xfrm>
            <a:off x="3429000" y="4876920"/>
            <a:ext cx="76212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ngelolaan konfigurasi(bab19)</a:t>
            </a:r>
            <a:endParaRPr b="0" lang="en-US" sz="900" spc="-1" strike="noStrike">
              <a:solidFill>
                <a:srgbClr val="000000"/>
              </a:solidFill>
              <a:latin typeface="Arial"/>
            </a:endParaRPr>
          </a:p>
        </p:txBody>
      </p:sp>
      <p:sp>
        <p:nvSpPr>
          <p:cNvPr id="250" name="Rounded Rectangle 21"/>
          <p:cNvSpPr/>
          <p:nvPr/>
        </p:nvSpPr>
        <p:spPr>
          <a:xfrm>
            <a:off x="4238640" y="4876920"/>
            <a:ext cx="76212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ngawasan dokumentasi</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ab19)</a:t>
            </a:r>
            <a:endParaRPr b="0" lang="en-US" sz="900" spc="-1" strike="noStrike">
              <a:solidFill>
                <a:srgbClr val="000000"/>
              </a:solidFill>
              <a:latin typeface="Arial"/>
            </a:endParaRPr>
          </a:p>
        </p:txBody>
      </p:sp>
      <p:sp>
        <p:nvSpPr>
          <p:cNvPr id="251" name="Rounded Rectangle 22"/>
          <p:cNvSpPr/>
          <p:nvPr/>
        </p:nvSpPr>
        <p:spPr>
          <a:xfrm>
            <a:off x="5057640" y="4876920"/>
            <a:ext cx="76212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ngawasan kemajuan proye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ab20)</a:t>
            </a:r>
            <a:endParaRPr b="0" lang="en-US" sz="900" spc="-1" strike="noStrike">
              <a:solidFill>
                <a:srgbClr val="000000"/>
              </a:solidFill>
              <a:latin typeface="Arial"/>
            </a:endParaRPr>
          </a:p>
        </p:txBody>
      </p:sp>
      <p:sp>
        <p:nvSpPr>
          <p:cNvPr id="252" name="Rounded Rectangle 23"/>
          <p:cNvSpPr/>
          <p:nvPr/>
        </p:nvSpPr>
        <p:spPr>
          <a:xfrm>
            <a:off x="5877000" y="4886280"/>
            <a:ext cx="76176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ngukuran kualitas softwar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ab21)</a:t>
            </a:r>
            <a:endParaRPr b="0" lang="en-US" sz="900" spc="-1" strike="noStrike">
              <a:solidFill>
                <a:srgbClr val="000000"/>
              </a:solidFill>
              <a:latin typeface="Arial"/>
            </a:endParaRPr>
          </a:p>
        </p:txBody>
      </p:sp>
      <p:sp>
        <p:nvSpPr>
          <p:cNvPr id="253" name="Rounded Rectangle 24"/>
          <p:cNvSpPr/>
          <p:nvPr/>
        </p:nvSpPr>
        <p:spPr>
          <a:xfrm>
            <a:off x="6705720" y="4876920"/>
            <a:ext cx="76176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ukungan peralata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ab22)</a:t>
            </a:r>
            <a:endParaRPr b="0" lang="en-US" sz="900" spc="-1" strike="noStrike">
              <a:solidFill>
                <a:srgbClr val="000000"/>
              </a:solidFill>
              <a:latin typeface="Arial"/>
            </a:endParaRPr>
          </a:p>
        </p:txBody>
      </p:sp>
      <p:sp>
        <p:nvSpPr>
          <p:cNvPr id="254" name="Rounded Rectangle 25"/>
          <p:cNvSpPr/>
          <p:nvPr/>
        </p:nvSpPr>
        <p:spPr>
          <a:xfrm>
            <a:off x="7543800" y="4876920"/>
            <a:ext cx="76212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Standart manajemen kualita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ab23)</a:t>
            </a:r>
            <a:endParaRPr b="0" lang="en-US" sz="900" spc="-1" strike="noStrike">
              <a:solidFill>
                <a:srgbClr val="000000"/>
              </a:solidFill>
              <a:latin typeface="Arial"/>
            </a:endParaRPr>
          </a:p>
        </p:txBody>
      </p:sp>
      <p:sp>
        <p:nvSpPr>
          <p:cNvPr id="255" name="Rounded Rectangle 26"/>
          <p:cNvSpPr/>
          <p:nvPr/>
        </p:nvSpPr>
        <p:spPr>
          <a:xfrm>
            <a:off x="8344080" y="4876920"/>
            <a:ext cx="761760" cy="6858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Standar proses proye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bab24)</a:t>
            </a:r>
            <a:endParaRPr b="0" lang="en-US" sz="900" spc="-1" strike="noStrike">
              <a:solidFill>
                <a:srgbClr val="000000"/>
              </a:solidFill>
              <a:latin typeface="Arial"/>
            </a:endParaRPr>
          </a:p>
        </p:txBody>
      </p:sp>
      <p:sp>
        <p:nvSpPr>
          <p:cNvPr id="256" name="Rounded Rectangle 27"/>
          <p:cNvSpPr/>
          <p:nvPr/>
        </p:nvSpPr>
        <p:spPr>
          <a:xfrm>
            <a:off x="3124080" y="5619600"/>
            <a:ext cx="2971800" cy="2286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truktur Organisasi - Komponen manusia</a:t>
            </a:r>
            <a:endParaRPr b="0" lang="en-US" sz="1200" spc="-1" strike="noStrike">
              <a:solidFill>
                <a:srgbClr val="000000"/>
              </a:solidFill>
              <a:latin typeface="Arial"/>
            </a:endParaRPr>
          </a:p>
        </p:txBody>
      </p:sp>
      <p:sp>
        <p:nvSpPr>
          <p:cNvPr id="257" name="Rounded Rectangle 28"/>
          <p:cNvSpPr/>
          <p:nvPr/>
        </p:nvSpPr>
        <p:spPr>
          <a:xfrm>
            <a:off x="114480" y="5867280"/>
            <a:ext cx="1638000" cy="2574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najemen (bab 25)</a:t>
            </a:r>
            <a:endParaRPr b="0" lang="en-US" sz="1200" spc="-1" strike="noStrike">
              <a:solidFill>
                <a:srgbClr val="000000"/>
              </a:solidFill>
              <a:latin typeface="Arial"/>
            </a:endParaRPr>
          </a:p>
        </p:txBody>
      </p:sp>
      <p:sp>
        <p:nvSpPr>
          <p:cNvPr id="258" name="Rounded Rectangle 29"/>
          <p:cNvSpPr/>
          <p:nvPr/>
        </p:nvSpPr>
        <p:spPr>
          <a:xfrm>
            <a:off x="1752480" y="5867280"/>
            <a:ext cx="1600200" cy="2574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Unit SQA (bab 26.1)</a:t>
            </a:r>
            <a:endParaRPr b="0" lang="en-US" sz="1200" spc="-1" strike="noStrike">
              <a:solidFill>
                <a:srgbClr val="000000"/>
              </a:solidFill>
              <a:latin typeface="Arial"/>
            </a:endParaRPr>
          </a:p>
        </p:txBody>
      </p:sp>
      <p:sp>
        <p:nvSpPr>
          <p:cNvPr id="259" name="Rounded Rectangle 30"/>
          <p:cNvSpPr/>
          <p:nvPr/>
        </p:nvSpPr>
        <p:spPr>
          <a:xfrm>
            <a:off x="3352680" y="5867280"/>
            <a:ext cx="2286000" cy="2574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Dewan pengawas SQA (bab 26.2)</a:t>
            </a:r>
            <a:endParaRPr b="0" lang="en-US" sz="1100" spc="-1" strike="noStrike">
              <a:solidFill>
                <a:srgbClr val="000000"/>
              </a:solidFill>
              <a:latin typeface="Arial"/>
            </a:endParaRPr>
          </a:p>
        </p:txBody>
      </p:sp>
      <p:sp>
        <p:nvSpPr>
          <p:cNvPr id="260" name="Rounded Rectangle 31"/>
          <p:cNvSpPr/>
          <p:nvPr/>
        </p:nvSpPr>
        <p:spPr>
          <a:xfrm>
            <a:off x="5638680" y="5867280"/>
            <a:ext cx="1752840" cy="2574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Komite SQA (bab 26.3)</a:t>
            </a:r>
            <a:endParaRPr b="0" lang="en-US" sz="1200" spc="-1" strike="noStrike">
              <a:solidFill>
                <a:srgbClr val="000000"/>
              </a:solidFill>
              <a:latin typeface="Arial"/>
            </a:endParaRPr>
          </a:p>
        </p:txBody>
      </p:sp>
      <p:sp>
        <p:nvSpPr>
          <p:cNvPr id="261" name="Rounded Rectangle 32"/>
          <p:cNvSpPr/>
          <p:nvPr/>
        </p:nvSpPr>
        <p:spPr>
          <a:xfrm>
            <a:off x="7391520" y="5867280"/>
            <a:ext cx="1752480" cy="257400"/>
          </a:xfrm>
          <a:prstGeom prst="roundRect">
            <a:avLst>
              <a:gd name="adj" fmla="val 16667"/>
            </a:avLst>
          </a:prstGeom>
          <a:solidFill>
            <a:srgbClr val="e5c6d5"/>
          </a:solidFill>
          <a:ln w="39960">
            <a:solidFill>
              <a:srgbClr val="862a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rum SQA (bab 26.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212760" y="-463680"/>
            <a:ext cx="7493040" cy="1158840"/>
          </a:xfrm>
          <a:prstGeom prst="rect">
            <a:avLst/>
          </a:prstGeom>
          <a:ln w="0">
            <a:noFill/>
          </a:ln>
        </p:spPr>
      </p:pic>
      <p:sp>
        <p:nvSpPr>
          <p:cNvPr id="263" name=""/>
          <p:cNvSpPr txBox="1"/>
          <p:nvPr/>
        </p:nvSpPr>
        <p:spPr>
          <a:xfrm>
            <a:off x="152280" y="685440"/>
            <a:ext cx="7925040" cy="5715000"/>
          </a:xfrm>
          <a:prstGeom prst="rect">
            <a:avLst/>
          </a:prstGeom>
          <a:noFill/>
          <a:ln w="0">
            <a:noFill/>
          </a:ln>
        </p:spPr>
        <p:txBody>
          <a:bodyPr anchor="t">
            <a:normAutofit fontScale="93000"/>
          </a:bodyPr>
          <a:p>
            <a:pPr marL="253440" indent="-2534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imaksudkan untuk meningkatkan persiapan langkah yang diambil sebelum memulai bekerja pada awal proyek</a:t>
            </a:r>
            <a:endParaRPr b="0" lang="en-US" sz="1200" spc="-1" strike="noStrike">
              <a:solidFill>
                <a:srgbClr val="000000"/>
              </a:solidFill>
              <a:latin typeface="Trebuchet MS"/>
            </a:endParaRPr>
          </a:p>
          <a:p>
            <a:pPr marL="253440" indent="-2534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erbagi menjadi :</a:t>
            </a:r>
            <a:endParaRPr b="0" lang="en-US" sz="1200" spc="-1" strike="noStrike">
              <a:solidFill>
                <a:srgbClr val="000000"/>
              </a:solidFill>
              <a:latin typeface="Trebuchet MS"/>
            </a:endParaRPr>
          </a:p>
          <a:p>
            <a:pPr lvl="1" marL="483840" indent="-212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rebuchet MS"/>
              </a:rPr>
              <a:t>Review Kontrak</a:t>
            </a:r>
            <a:endParaRPr b="0" lang="en-US" sz="1200" spc="-1" strike="noStrike">
              <a:solidFill>
                <a:srgbClr val="6c6c6c"/>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kontrak kegiatan peninjauan harus mencakup pemeriksaan rinci</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a) draft proposal proyek, dan</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 draft kontrak</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Secara khusus, kontrak kegiatan kajian meliputi:</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a) Klarifikasi kebutuhan pelanggan</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 Evaluasi kemampuan staf profesional untuk melaksanakan usulan proyek</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c) Evaluasi kapasitas pelanggan untuk memenuhi kewajibannya</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d) Evaluasi risiko pembangunan</a:t>
            </a:r>
            <a:endParaRPr b="0" lang="en-US" sz="1200" spc="-1" strike="noStrike">
              <a:solidFill>
                <a:srgbClr val="000000"/>
              </a:solidFill>
              <a:latin typeface="Trebuchet MS"/>
            </a:endParaRPr>
          </a:p>
          <a:p>
            <a:pPr lvl="1" marL="483840" indent="-2124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rebuchet MS"/>
              </a:rPr>
              <a:t>Perencanaan Pengembangan dan Mutu</a:t>
            </a:r>
            <a:endParaRPr b="0" lang="en-US" sz="1200" spc="-1" strike="noStrike">
              <a:solidFill>
                <a:srgbClr val="6c6c6c"/>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Isu – isu utama yang diperlakukan dalam rencana pengembangan proyek adalah :</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a) Jadwal</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 Dibutuhkan tenaga kerja dan sumber daya hardware</a:t>
            </a:r>
            <a:r>
              <a:rPr b="0" lang="en-US" sz="1200" spc="-1" strike="noStrike">
                <a:solidFill>
                  <a:srgbClr val="000000"/>
                </a:solidFill>
                <a:latin typeface="Trebuchet MS"/>
              </a:rPr>
              <a:t>	</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c) Risiko evaluasi</a:t>
            </a:r>
            <a:r>
              <a:rPr b="0" lang="en-US" sz="1200" spc="-1" strike="noStrike">
                <a:solidFill>
                  <a:srgbClr val="000000"/>
                </a:solidFill>
                <a:latin typeface="Trebuchet MS"/>
              </a:rPr>
              <a:t>	</a:t>
            </a:r>
            <a:r>
              <a:rPr b="0" lang="en-US" sz="1200" spc="-1" strike="noStrike">
                <a:solidFill>
                  <a:srgbClr val="000000"/>
                </a:solidFill>
                <a:latin typeface="Trebuchet MS"/>
              </a:rPr>
              <a:t>	</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d) isu-isu organisasi : anggota tim, subkontraktor, dan kemitraan</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e) metodologi proyek, perangkat pengembangan, dll</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f) Rencana reuse software</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Isu – isu utama yang dirawat direncana mutu proyek adalah:</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a) Tujuan kualitas, yang dinyatakan dalam istilah yang terukur sesuai</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 Kriteria untuk memulai dan mengakhiri setiap tahap proyek</a:t>
            </a:r>
            <a:endParaRPr b="0" lang="en-US" sz="1200" spc="-1" strike="noStrike">
              <a:solidFill>
                <a:srgbClr val="000000"/>
              </a:solidFill>
              <a:latin typeface="Trebuchet MS"/>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c) Daftar dari review, tes, dan verifikasi dijadwalkan lainnya dan validasi kegiatan. </a:t>
            </a:r>
            <a:endParaRPr b="0" lang="en-US" sz="1200" spc="-1" strike="noStrike">
              <a:solidFill>
                <a:srgbClr val="000000"/>
              </a:solidFill>
              <a:latin typeface="Trebuchet MS"/>
            </a:endParaRPr>
          </a:p>
          <a:p>
            <a:pPr lvl="1" marL="483840" indent="-212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212760" y="-23760"/>
            <a:ext cx="8375760" cy="1176120"/>
          </a:xfrm>
          <a:prstGeom prst="rect">
            <a:avLst/>
          </a:prstGeom>
          <a:ln w="0">
            <a:noFill/>
          </a:ln>
        </p:spPr>
      </p:pic>
      <p:sp>
        <p:nvSpPr>
          <p:cNvPr id="265" name=""/>
          <p:cNvSpPr txBox="1"/>
          <p:nvPr/>
        </p:nvSpPr>
        <p:spPr>
          <a:xfrm>
            <a:off x="151920" y="1143000"/>
            <a:ext cx="8001000" cy="55627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view/Pemeriksaan</a:t>
            </a:r>
            <a:endParaRPr b="0" lang="en-US" sz="1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Tahap desain dari pengembangan menghasilkan berbagai dokumen. Produk yang dicetak meliputi desain laporan, dokumen pengujian software, rencana instalasi software, dan manual software, dll. Reviews dapat dikategorikan sebagai tinjauan desain formal dan peer reviews.</a:t>
            </a:r>
            <a:endParaRPr b="0" lang="en-US" sz="1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 Reviews desain formal</a:t>
            </a:r>
            <a:endParaRPr b="0" lang="en-US" sz="1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b) review peer</a:t>
            </a:r>
            <a:endParaRPr b="0" lang="en-US" sz="1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ndapat para ahli</a:t>
            </a:r>
            <a:endParaRPr b="0" lang="en-US" sz="1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Pendapat ahli mendukung upaya – upaya penilaian kualitas dengan memperkenalkan tambahan eksternal kemampuan dalam proses pengembangan organisasi in-house </a:t>
            </a:r>
            <a:endParaRPr b="0" lang="en-US" sz="1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Uji Coba Software</a:t>
            </a:r>
            <a:endParaRPr b="0" lang="en-US" sz="1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Test software adalah komponen SQA formal yang ditargetkan terhadap tinjauan yang sedang berjalan yang sebenarnya dari software. Pengujian berdasarkan daftar yang dibuat kasus uji yang mewakili berbagai skenario yang diharapkan. Test software memeriksa modul software, integrasi software, atau paket software seluruh sistem.</a:t>
            </a:r>
            <a:endParaRPr b="0" lang="en-US" sz="1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epastian kualitas dari sub kontraktor, supplier, dan mitra</a:t>
            </a:r>
            <a:endParaRPr b="0" lang="en-US" sz="1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Subkontraktor dan pelanggan sering bergabung dengan pengembang langsung dalam melaksanakan proyek – proyek pengembangan software. U</a:t>
            </a:r>
            <a:r>
              <a:rPr b="0" lang="id-ID" sz="1200" spc="-1" strike="noStrike">
                <a:solidFill>
                  <a:srgbClr val="000000"/>
                </a:solidFill>
                <a:latin typeface="Trebuchet MS"/>
              </a:rPr>
              <a:t>paya software khusus jaminan yang diperlukan</a:t>
            </a:r>
            <a:r>
              <a:rPr b="0" lang="en-US" sz="1200" spc="-1" strike="noStrike">
                <a:solidFill>
                  <a:srgbClr val="000000"/>
                </a:solidFill>
                <a:latin typeface="Trebuchet MS"/>
              </a:rPr>
              <a:t> </a:t>
            </a:r>
            <a:r>
              <a:rPr b="0" lang="id-ID" sz="1200" spc="-1" strike="noStrike">
                <a:solidFill>
                  <a:srgbClr val="000000"/>
                </a:solidFill>
                <a:latin typeface="Trebuchet MS"/>
              </a:rPr>
              <a:t>untuk menetapkan pengendalian yang efektif atas pekerjaan peserta eksternal. Khusus</a:t>
            </a:r>
            <a:r>
              <a:rPr b="0" lang="en-US" sz="1200" spc="-1" strike="noStrike">
                <a:solidFill>
                  <a:srgbClr val="000000"/>
                </a:solidFill>
                <a:latin typeface="Trebuchet MS"/>
              </a:rPr>
              <a:t> </a:t>
            </a:r>
            <a:r>
              <a:rPr b="0" lang="id-ID" sz="1200" spc="-1" strike="noStrike">
                <a:solidFill>
                  <a:srgbClr val="000000"/>
                </a:solidFill>
                <a:latin typeface="Trebuchet MS"/>
              </a:rPr>
              <a:t>SQA upaya diperlukan untuk menjamin kualitas perangkat lunak, perangkat keras, staf</a:t>
            </a:r>
            <a:r>
              <a:rPr b="0" lang="en-US" sz="1200" spc="-1" strike="noStrike">
                <a:solidFill>
                  <a:srgbClr val="000000"/>
                </a:solidFill>
                <a:latin typeface="Trebuchet MS"/>
              </a:rPr>
              <a:t> </a:t>
            </a:r>
            <a:r>
              <a:rPr b="0" lang="id-ID" sz="1200" spc="-1" strike="noStrike">
                <a:solidFill>
                  <a:srgbClr val="000000"/>
                </a:solidFill>
                <a:latin typeface="Trebuchet MS"/>
              </a:rPr>
              <a:t>dan pelatihan yang diberikan oleh pelanggan.</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560" y="75960"/>
            <a:ext cx="7848360" cy="65530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meliharaan Software</a:t>
            </a:r>
            <a:endParaRPr b="0" lang="en-US" sz="14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Jasa pemeliharaan software bervariasi dalam jangkauan dan disediakan untuk periode yang lama, seringkali beberapa tahun. Layanan ini jatuh ke dalam kategori berikut:</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a) Corrective maintenance</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 Adaptive maintenance</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c) Functionlity improvement maintenance</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Jasa pemeliharaan software harus memenuhi segala macam persyaratan mutu, terutama fungsi dan penjadwalan persyaratan (umumnya memutuskan bersama dengan pelanggan) serta keterbatasan anggaran (ditentukan oleh penyedia layanan). Penyediaan jasa pemeliharaan melibatkan penerapan berbagai macam komponen SQA. Komponen SQA utama yang dipekerjakan dalam jaminan kualitas sistem pemeliharaan adalah:</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 Pre-maintenance komponen</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Pemeliharaan kontrak review</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pemeliharaan rencana</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b) Software development life cycle components</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komponen ini diterapkan untuk perbaikan fungsi dan tugas pemeliharaan adaptif.</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c) Infrastruktur SQA componen</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pemeliharaan prosedur dan instruksi</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pendukung kualitas perangkat</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maintenance pelatihan staff, pelatihan ulang, dan sertifikasi</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pemeliharaan preventif dan tindakan korektif</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konfigurasi manajemen</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kontrol dokumentasi pemeliharaan dan catatan mutu</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d) Manajerial control SQA componen</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pemeliharaan layanan kontrol</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pemeliharaan metrik kualitas</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 pemeliharaan biaya kualitas</a:t>
            </a:r>
            <a:endParaRPr b="0" lang="en-US" sz="1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23:49:04Z</dcterms:created>
  <dc:creator>elyzs</dc:creator>
  <dc:description/>
  <dc:language>en-US</dc:language>
  <cp:lastModifiedBy>hero</cp:lastModifiedBy>
  <dcterms:modified xsi:type="dcterms:W3CDTF">2012-03-09T21:14:01Z</dcterms:modified>
  <cp:revision>32</cp:revision>
  <dc:subject/>
  <dc:title>BAB 4 KOMPONEN SISTEM SQA</dc:title>
</cp:coreProperties>
</file>