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7D25-7ABE-448F-B7B5-CAACC60C0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F351-DEE6-4D93-A5C5-D6AF68613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999-90DD-4CBC-A4E2-8C2CBBAC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A59-A9A8-430F-AB80-BCE8D96E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5BF-6C08-4FB5-BAF6-F13A4651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11B-CB2A-44F6-9D82-A8C9945B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5809-7D89-4150-8B54-9E89B0F0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8456-D8C4-4AC0-8784-C004629A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1CB1-AA98-48BD-9145-7E86B3D1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0462-7470-4A25-95F5-0C9ECAF7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8306-F0A8-4C64-97D4-F2E2603A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7C4C-8CA4-41EF-81E8-9594301A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3726-873D-46CA-92A2-DF6D842B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959-9501-4EF4-87CF-84055181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C652-12C7-4E92-9624-7B880EF8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1F6A-0D9B-4BCF-BE61-50F44361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AF1C-EDB4-4B0F-A2C4-B864580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C9FB-4D08-4590-A6CD-D3A4F24D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C140-9CCD-4D67-AA4E-50358B2D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FB42A-D6B3-4788-B7B8-F341E0F9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37E6AE-426A-4BD8-A922-05D0402D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F5170-4824-4047-9741-B170AAB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B9AA6-D829-4879-89B2-B15A7509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64889-0386-4289-A9AC-6D0BD0F1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114-99BF-4918-BCF9-BC81D936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5734F-04C7-4DE1-8BB7-E4162300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8FD00-B507-4A8C-B69F-5A02D6C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98016-AD63-4C11-A27C-04896FA2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01348-02DA-495E-B6C2-E93F9DC2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C6BFE-0CBE-49DE-B42F-7D9CBA31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CC68E-348B-43B4-AF77-F245C24F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B5A5E-ABB0-491A-A96A-D279BEE5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D719A-3DD2-49D6-87AC-8A3042CF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1934B-5E9A-4171-86CB-2DA3667C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72CD3-E38D-4782-90EA-EC47D7D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952-BAF2-47C3-A3D1-FC4596FD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C7D4C-9956-4FDF-BE96-A460A25C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D841F-2283-48DF-8584-DDDD5D47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4D5F3-7EF2-4BB3-AF3D-44E2E087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CF3CD-3557-417A-B895-43DFF9E8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40CEE-AF63-4847-A014-C2CDF36D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E433D-98A4-4965-8876-000D455F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21DBD-AF80-45EC-B69B-EE4ECF21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21C78-8555-4B49-8122-FF27FDEB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CBF70-AD15-459F-BB8B-4D43D955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A6DF0-5F35-4E7A-86F2-DB3ADAD6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C04-ACD5-4F5B-9EE4-6404202D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02303-CCDF-4B64-9223-67B0EED0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B006E-2025-4DBD-B2C1-337BB6BE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ADFFC-3DCF-4B35-9307-C2198AF2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1D2FF-3235-4D40-8CE1-DFE26C58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87AF2-7D4E-4A3B-9EDC-9DE25383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91DE3-0DE5-4329-8B8A-08F2B25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BF784-1958-4A9C-9012-0E5CA6A7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C15F2-FB64-40F4-987C-E5925A60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8609C-98DC-4089-A99E-C1DA3E9C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1E58A-A90B-4F8C-A457-FCE3E4F9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5B2-66A9-4A5F-894B-B32C0C94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D0D93-AF41-4CD8-8B75-955C1C49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273BB-E14E-4D3B-A8B3-EC69676A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244E6-0AAC-4C13-A512-BB9F02B1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778AD-2D95-4AED-8B56-B1F9534F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D5D5F-16F5-4A5A-8772-72EA3965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37D97-B624-4DCE-A08A-C3F39A28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5FB4F-BCCE-468D-A89E-1A9CF8A1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F5FEB-59A1-4371-8E21-FC3BF8A4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131AF-777A-4379-87B6-C27082FE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32675-3B8E-4810-A11A-7EAB9DA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BD4-E65B-4583-986B-439E932A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715D0-C5F8-46B6-A00D-86BDD7C9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24619-3C36-4047-8CB6-EABFFF6A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BC9FC-8BF6-4DFE-AAF9-7F7F9B9C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4F53BA-BDB8-4D35-A025-21B78A6F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47080D-70AF-4C7E-A8E6-E9ECA834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B2C05-F555-4321-AD44-1BDC037C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9CAB4-9D67-4602-81E8-AE24F866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BCA45-99C8-4892-9735-1AF6B699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CFE90-270A-41A9-8365-00FAC6E5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D09A7-17E3-4F08-A262-93DFF32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ECA-7B1B-4BDE-B943-82CE6370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0F913-B1F2-42A4-B100-704FAB6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50286-3812-4E21-A882-90ABC614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4C206-DEE0-4872-9B81-7A3542BF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57604-12F3-4C15-BFE8-1498D15C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FEF06-E928-44CA-96EE-8520D327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F3309-4C19-4241-B828-08B38A8C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DEAF0-DCF1-4DC3-B484-F94E0715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950B8-2F17-4424-93EE-4416C456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C07F6-A98E-440A-9E6C-4F361C37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35620-1EFC-49EF-8F7A-B89D1A33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9A2-905B-4A80-A561-EFA09F56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7A923-5740-43C6-B014-DEF1E5E2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C3BB5-43D3-462C-9F6E-B833C742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AB25F-070D-42CC-945C-C5E6178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C9603-2E7F-4D67-84AF-F68CE1D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B0498-3234-4478-975D-EE658580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383C5-7BC9-4E89-9A71-C9B9C2B0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1E552-3643-4EEF-8A10-7D120F06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06CF-40B4-428A-B768-3D6C5184821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1E24-0A9F-4A6E-866F-B013A7007C5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12AA-AE34-4DEE-9662-85A79AE34E2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F40F-A353-4928-A51F-C2CE32FF218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9670-7734-4BC8-8CD5-49C8CEB15A0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55ED-A5A3-4EED-9CF4-7750E2B2FA0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0FEB-A17C-4F79-B028-C84ED803A97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910A-6E23-4312-93C7-82052271EAA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Manajemen Kualitas Perangkat Lunak IT-PENS @2010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761760" y="41148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P6- RENCANA PENGEMBANGAN PRODUK &amp; JAMINAN KUALITAS SOFTWARE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5. Pengembangan &amp; Perencanaan Kualitas untuk </a:t>
            </a:r>
            <a:br>
              <a:rPr sz="2800"/>
            </a:b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    Proyek Internal atau Proyek Kecil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pakah sebuah proyek hanya membutuhkan 40 hari kerja dan dikerjakan satu orang profesional dan keseluruhan akan selesai dalam 12 minggu 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pakah proyek dapat dilaksanakan oleh tiga profesional dimana total investasinya 30 orang-hari kerja dan keseluruhan selesai dalam 5 minggu 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Keuntungan merencanakan proyek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emahaman yang meliputi banyak hal tentang pekerjaan dapat dicapai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anggung jawab yang lebih tinggi dalam hal kewajiban menghadiri pertemuan/rapat dapat dipenuh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Lebih mudah bagi manajemen dan pelanggan untuk membagi pengawasan sebuah proyek dan mengidentifikasikan penundaan yang tidak terduga pada awal waktu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emahaman dan penghormatan yang lebih baik terhadap daftar kebutuhan dan timetible yang telah disepakati antara pengembang dan pelangga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Hasil dari Perencanaan Pengembang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oduk dari proyek, hasil yang akan diserahkan “deliverable”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enchmarking proye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iko pengembang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erkiraan biaya proyek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6. Ringkas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Jelaskan tujuan dari pengembangan dan perencanaan kualitas 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butkan elemen-elemen rencana pengembangan 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butkan elemen-elemen rencana jamina kualitas 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butkan jenis resiko utama pembuatan software 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600200"/>
            <a:ext cx="853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ndahulu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ujuan Rencana Pengembangan dan Jaminan Kualitas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sur Rencana Pengembang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sur Rencana Jaminan Kualitas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ngembangan &amp; Perencanaan Kualitas untuk Proyek Internal Kec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ingkas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1. Pendahuluan, tujuan Mempelajari bab ini 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jelaskan tujuan dari rencana pengembangan dan perencanaan kualita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yebutkan unsur perencanaan kualit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yebutkan macam resiko software yang utam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jelaskan proses dari manajemen resiko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diskusikan kepentingan dari pengembangan dan perencanaan kualitas terhadap software keci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diskusikan kepentingan dari pengembangan dan perencanaan kualitas terhadap proyek intern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2. Tujuan Rencana Pengembangan dan Jaminan Kualitas Softwar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mpersiakan pondasi yang kokoh untuk beberapa hal berikut 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Jadwal kegiatan pengembang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Jadwal penyelesaian tepat waktu sebuah proye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kiraan sumber daya manusia dan biayany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ekrutan anggota tim dan alokasi sumber daya untuk pengembang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mecahkan resiko pengembang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nerapan kegiatan yang dibutuhkan SQ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nyediakan manajemen jenis data yang diperluakan untuk pengawasan proyek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3. Unsur Rencana Pengembangan Proyek (1)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roduk Proye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777960" indent="-45720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okumen softwar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77960" indent="-45720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duk softwa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77960" indent="-45720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latih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terface Proye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777960" indent="-45720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terface dengan paket software dan hardware yang telah ad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777960" indent="-45720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terface dengan tim pengembangan software dan hardware yang lai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3. Unsur Rencana Pengembangan Proyek (2)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todolog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tandar dan Pengembangan Softwar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ilestone (waktu kejadian penting)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3. Unsur Rencana Pengembangan Proyek (3)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Pemetaan terhadap proses pengembang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erkiraan lama kegiat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angkaian logika pada masing-masing kegiat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pe dari sumber daya profesional yang diperluk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Organisasi Staf Proye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ruktur organisasi : tim proyek, tugas, anggota tim lainnya (pekerja sub kontraktor sementar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ama ketua dan anggota tim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Kebutuhan profesional : sertifikasi, pengalaman bahasa program, tool pengembangan tertentu, produk software tertentu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mlah anggota tim per periode berdasarkan jadwal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3. Unsur Rencana Pengembangan Proyek (4)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asilitas Pengembang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777960" indent="-45720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Hardware, software, tool pengembangan, ruang kantor &amp; item yg lai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siko Pengembang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777960" indent="-45720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Gap teknologi, kurangnya staf, ketergantungan antar elemen organisasi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0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etode Pengawasa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777960" indent="-457200"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Untuk mengawasi proyek, manajer dan manajemen menerapkan rangkaian kegiatan pengawasa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1.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erkiraan Biaya Proye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4. Unsur Rencana Jaminan Kualitas Softwar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aftar tujuan jaminan kualit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encanaan pemeriksaan kegiata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encanaan uji coba softwa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rencanaan uji coba untuk pengembang software ekstern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ngelolaan prosedur dan pengelolaan too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05:39:42Z</dcterms:created>
  <dc:creator>yudo</dc:creator>
  <dc:description/>
  <dc:language>en-US</dc:language>
  <cp:lastModifiedBy>yudo</cp:lastModifiedBy>
  <dcterms:modified xsi:type="dcterms:W3CDTF">2010-06-16T03:17:15Z</dcterms:modified>
  <cp:revision>109</cp:revision>
  <dc:subject/>
  <dc:title>Slide 1</dc:title>
</cp:coreProperties>
</file>