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650195-8CA7-4D4F-B247-AFE853AE5D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19132-A0AE-4E1A-B018-E5A837C3C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6A48A6-7D6F-4E21-981C-EDDCBB46D4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5D2037-F604-4532-9F15-517336091A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F205C9-F501-43AA-8D82-935E7A1062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07637E-F400-4372-BC4E-F207CBE67B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C3D15-6206-4021-AF75-81663BAB94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3B2083-8FBA-4E02-A694-093B9F4C9C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D4C81C-F823-4EBF-B151-3AECF1817D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E9B948-2917-478C-9DD6-34CB2EA9AC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E2FF6-1AA7-4F4D-A271-27F89AED7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7845C-A60E-4FE3-AF22-CB1D39210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B8934-D5FE-439E-9EAE-495056F35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41251-14E1-4B61-A7AE-C20B2C030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326827-CEAA-49CD-AD17-43CF75FE50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72523C-F3A8-41D8-B515-7299F2CC39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C8E8D8-14E0-4067-8F47-F0B91800D9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9A0AA26-C6AB-4C84-A603-CAD82534CB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F224F31-BC42-4E7B-9446-DBDEAB1212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8C8E8A1-2C30-488C-AEEB-2C084AC2F5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79C7A9C-6251-4DD0-A638-934F8C85C9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7E370E8-77F0-407B-B149-DB7BCAF6FA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1E741-B089-4824-8C49-CBE36E42D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C84E16A-1604-4198-A072-5714FF5652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600F7DC-0894-44CD-819B-E6195A402B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73E7530-0BB1-48EE-AF9D-23319C3B18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AABE515-05DD-4A02-B721-5F53CD9DBC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A4ED5E0-F8CD-4390-B81D-3ACF321F19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1F9D0B0-AAD5-4A85-BCBA-675F3D6EE9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7C09822-F1F9-49A4-9E31-5C23F96805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12BFDE-E3B3-4E63-9D2A-40950EDDE4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DBC22C-F9F9-4924-AFFD-B80A373E33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EA517D-7C59-49D2-A857-338655BB82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575D8-DE37-4833-8726-645F04450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7F1095-EF1A-4148-AD13-36244F8A22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CAE2E3-F419-4BA4-8148-54AF75FC30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FEE361-6A44-43A6-9B84-D739DCAAA9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63C63D-DD38-4087-9594-7A9400FC38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9FACBB-840F-4F78-ADE5-0BE9179ABA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676217-A617-4135-A691-7D321BF6E3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A2C3E0-DE57-4BA9-A537-6594504167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47FB5A-1237-46C4-BD6C-3923063381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1A906F-2F4A-41AB-AA57-0060375A1C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46B6517-2FF3-4DB4-A34D-0AEBDCE6F8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A1CD9-46E8-43D1-863A-E8466A95D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81F4ED3-C601-4E1D-A82C-C6A77B25CE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450916A-3559-4C8C-A4A1-887EE307C1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15356CB-AFFF-40B5-BAA4-1B2AB4646B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63CBE3A-11D3-4B7F-8CB9-6DE20FA1B1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0B3D4D8-5D6E-48EE-8CC9-65F8B3B108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F3A7904-2CC0-4917-A3E6-D8C75C5521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7F1FA79-2510-4FD2-A96A-5024FA2C69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F647436-F215-4832-B0C6-D586A44ADC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6E5229C-D251-4F58-99F8-CFC0B06554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27EFB06-5F49-4A9E-9213-2C1A9DE120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F8735-FD1E-458F-96E7-2A8323F07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FE03C11-C05B-441F-A954-521E621BBF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B99D995E-E511-4E3C-9D68-017B99C60A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8E2FF74-D99E-47AC-BC00-54F2B88477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52DDBD4-2EAC-44ED-A118-E8E8323D82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6695816-F6D6-4FB3-9FDA-FC26869E48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2C88C2F-A484-4DF7-8938-7C84692C9B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127AD2D-02B8-47BF-B864-F57E1973CD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A20B67B-DAAA-490F-9813-25FB469301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E8D7DCB-8CAC-4FFF-8ABA-C3137EB517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CFAE227-C4A9-440A-8FD8-7F13913CDA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48657-A0B8-42B8-8F4A-8A9570AA8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942FE68-1E1B-4046-93A7-1561E32D83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A8C6F39-5DE8-4DEC-A5DD-5BA06306A9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74E2F475-3CD1-44BB-9DAD-C3B5760875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D1F9D3F-4757-4CCE-A6CD-B358BF60E9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2598C54-1903-41B3-9E59-C8104EC9A6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0A556D4-BA61-4A1D-A9F9-31DCB4AD86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A475539-F52F-431A-B6EF-557EE84E6D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1040D75-ED00-4820-8B7C-6876DFB71C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DE273BB-A405-4414-9496-82A5C05835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720CE76-7F3F-4DEB-B302-CC31662837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D0B06-EF25-4F77-BE72-4B16A4AEE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A992369-F893-4275-8088-926C64610D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14966C2-0BC4-4490-B1E7-7B613D68C3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730CA49-8BEB-4DE0-B7FB-9D02741003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976A3993-38BB-4F5F-B891-6B9F93AC23A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282DFDE-A3EE-4B9C-9BFE-6BE063B3BA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B8D60-ABFA-4CC7-95C3-24E5E4B5DF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78F2D-6E4C-4DA0-8952-72601B90C0E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9E8DF-FFC3-4F55-AC1B-7408E174F90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04D1C-2AAB-468A-A9B8-2EABD424A1B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4364C-1913-4360-A0AF-DB53C7251D8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A2B10-391C-4189-9826-69BF4AD016C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E1101-8520-4F24-ABDA-6C6A3E14DDF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935D3-5978-45CC-9591-CE5476FDB6C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371600" y="2057400"/>
            <a:ext cx="7772400" cy="90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c5c78"/>
                </a:solidFill>
                <a:latin typeface="Century Schoolbook"/>
              </a:rPr>
              <a:t>BAB 1 </a:t>
            </a:r>
            <a:br>
              <a:rPr sz="2700"/>
            </a:br>
            <a:r>
              <a:rPr b="1" lang="en-US" sz="2700" spc="-1" strike="noStrike">
                <a:solidFill>
                  <a:srgbClr val="4c5c78"/>
                </a:solidFill>
                <a:latin typeface="Century Schoolbook"/>
              </a:rPr>
              <a:t>TANTANGAN PERANGKAT LUNAK</a:t>
            </a:r>
            <a:endParaRPr b="0" lang="en-US" sz="27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REVIEW</a:t>
            </a:r>
            <a:endParaRPr b="0" lang="en-US" sz="3000" spc="-1" strike="noStrike">
              <a:solidFill>
                <a:srgbClr val="575f6d"/>
              </a:solidFill>
              <a:latin typeface="Century Schoolbook"/>
            </a:endParaRPr>
          </a:p>
        </p:txBody>
      </p:sp>
      <p:sp>
        <p:nvSpPr>
          <p:cNvPr id="369" name=""/>
          <p:cNvSpPr txBox="1"/>
          <p:nvPr/>
        </p:nvSpPr>
        <p:spPr>
          <a:xfrm>
            <a:off x="456840" y="1600200"/>
            <a:ext cx="7467480" cy="4873680"/>
          </a:xfrm>
          <a:prstGeom prst="rect">
            <a:avLst/>
          </a:prstGeom>
          <a:noFill/>
          <a:ln w="0">
            <a:noFill/>
          </a:ln>
        </p:spPr>
        <p:txBody>
          <a:bodyPr anchor="t">
            <a:normAutofit/>
          </a:bodyPr>
          <a:p>
            <a:pPr marL="457200" indent="-457200">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iga faktor utama perbedaan produk PL dengan produk industri.</a:t>
            </a:r>
            <a:endParaRPr b="0" lang="en-US" sz="2400" spc="-1" strike="noStrike">
              <a:solidFill>
                <a:srgbClr val="000000"/>
              </a:solidFill>
              <a:latin typeface="Century Schoolbook"/>
            </a:endParaRPr>
          </a:p>
          <a:p>
            <a:pPr marL="457200" indent="-457200">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Jelaskan isu pokok dalam lingkungan pengembangan dan pemeliharaan PL secara profesional.</a:t>
            </a:r>
            <a:endParaRPr b="0" lang="en-US" sz="2400" spc="-1" strike="noStrike">
              <a:solidFill>
                <a:srgbClr val="000000"/>
              </a:solidFill>
              <a:latin typeface="Century Schoolbook"/>
            </a:endParaRPr>
          </a:p>
          <a:p>
            <a:pPr marL="457200" indent="-457200">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UJUAN</a:t>
            </a:r>
            <a:endParaRPr b="0" lang="en-US" sz="3000" spc="-1" strike="noStrike">
              <a:solidFill>
                <a:srgbClr val="575f6d"/>
              </a:solidFill>
              <a:latin typeface="Century Schoolbook"/>
            </a:endParaRPr>
          </a:p>
        </p:txBody>
      </p:sp>
      <p:sp>
        <p:nvSpPr>
          <p:cNvPr id="353" name=""/>
          <p:cNvSpPr txBox="1"/>
          <p:nvPr/>
        </p:nvSpPr>
        <p:spPr>
          <a:xfrm>
            <a:off x="456840" y="1600200"/>
            <a:ext cx="7467480" cy="4873680"/>
          </a:xfrm>
          <a:prstGeom prst="rect">
            <a:avLst/>
          </a:prstGeom>
          <a:noFill/>
          <a:ln w="0">
            <a:noFill/>
          </a:ln>
        </p:spPr>
        <p:txBody>
          <a:bodyPr anchor="t">
            <a:normAutofit/>
          </a:bodyPr>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Mengidentifikasi karakteristik unik pada sebuah PL sebagai sebuah produk maupun sebagai proses produksi yang membenarkan perlakuan yang terpisah terhadap permasalahan kualitas.</a:t>
            </a:r>
            <a:endParaRPr b="0" lang="en-US" sz="20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Mengenali karakteristik lingkungan dimana pengembang dan pemelihara perangkat lunak profesional berada</a:t>
            </a:r>
            <a:endParaRPr b="0" lang="en-US" sz="20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Menjelaskan kesulitan utama yang dihadapi oleh tim pengembang dan pemelihara PL di lingkungan tempat mereka bekerja.</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c5c78"/>
                </a:solidFill>
                <a:latin typeface="Century Schoolbook"/>
              </a:rPr>
              <a:t>PERTANYAAN :</a:t>
            </a:r>
            <a:endParaRPr b="0" lang="en-US" sz="3000" spc="-1" strike="noStrike">
              <a:solidFill>
                <a:srgbClr val="575f6d"/>
              </a:solidFill>
              <a:latin typeface="Century Schoolbook"/>
            </a:endParaRPr>
          </a:p>
        </p:txBody>
      </p:sp>
      <p:sp>
        <p:nvSpPr>
          <p:cNvPr id="35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pa perbedaan antara produk Software dan produk Industri ?</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Ragam Pengembang Software ?</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Karakteristik  utama pengembangan metoda SQA dalam software</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5c78"/>
                </a:solidFill>
                <a:latin typeface="Century Schoolbook"/>
              </a:rPr>
              <a:t>PERBEDAAN KARAKTERISTIK PRODUK INDUSTRI VS PRODUK SOFTWARE </a:t>
            </a:r>
            <a:endParaRPr b="0" lang="en-US" sz="2800" spc="-1" strike="noStrike">
              <a:solidFill>
                <a:srgbClr val="575f6d"/>
              </a:solidFill>
              <a:latin typeface="Century Schoolbook"/>
            </a:endParaRPr>
          </a:p>
        </p:txBody>
      </p:sp>
      <p:graphicFrame>
        <p:nvGraphicFramePr>
          <p:cNvPr id="357" name=""/>
          <p:cNvGraphicFramePr/>
          <p:nvPr/>
        </p:nvGraphicFramePr>
        <p:xfrm>
          <a:off x="914400" y="1752480"/>
          <a:ext cx="7315200" cy="3895920"/>
        </p:xfrm>
        <a:graphic>
          <a:graphicData uri="http://schemas.openxmlformats.org/drawingml/2006/table">
            <a:tbl>
              <a:tblPr/>
              <a:tblGrid>
                <a:gridCol w="1801800"/>
                <a:gridCol w="2681280"/>
                <a:gridCol w="2832120"/>
              </a:tblGrid>
              <a:tr h="34308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Calibri"/>
                        </a:rPr>
                        <a:t>Karakteristik</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Calibri"/>
                        </a:rPr>
                        <a:t>Produk Softwar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Calibri"/>
                        </a:rPr>
                        <a:t>Produk Industri</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r>
              <a:tr h="10285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Kerumita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Biasanya produk yang sangat rumit mempunyai sangat banyak pilihan operasional</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Tingkat kerumitan lebih rendah, mempunyai sedikitnya beberapa ribu pilihan operasi</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401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Kenampakan produk</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Produk tidak nampak (invisible), sulit mendeteksi cacat atau kesalahan dengan melihat disket atau cd softwar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Produk terlihat (visible), memperkenankan pendeteksian yang efektif terhadap cacat atau kesalahan dengan melih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122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Proses alami dari pengembangan dan produksi</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Kesempatan untuk mendeteksi kesalahan hanya muncul hanya pada satu tahap yaitu pengembangan produk</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Kesempatan untuk mendeteksi kesalahan muncul pada semua tahap pengembangan dan produksi</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762120" y="30492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c5c78"/>
                </a:solidFill>
                <a:latin typeface="Century Schoolbook"/>
              </a:rPr>
              <a:t>RAGAM PENGEMBANG PERANGKAT LUNAK</a:t>
            </a:r>
            <a:endParaRPr b="0" lang="en-US" sz="2900" spc="-1" strike="noStrike">
              <a:solidFill>
                <a:srgbClr val="575f6d"/>
              </a:solidFill>
              <a:latin typeface="Century Schoolbook"/>
            </a:endParaRPr>
          </a:p>
        </p:txBody>
      </p:sp>
      <p:sp>
        <p:nvSpPr>
          <p:cNvPr id="359" name=""/>
          <p:cNvSpPr txBox="1"/>
          <p:nvPr/>
        </p:nvSpPr>
        <p:spPr>
          <a:xfrm>
            <a:off x="456840" y="1600200"/>
            <a:ext cx="7467480" cy="4873680"/>
          </a:xfrm>
          <a:prstGeom prst="rect">
            <a:avLst/>
          </a:prstGeom>
          <a:noFill/>
          <a:ln w="0">
            <a:noFill/>
          </a:ln>
        </p:spPr>
        <p:txBody>
          <a:bodyPr anchor="t">
            <a:normAutofit/>
          </a:bodyPr>
          <a:p>
            <a:pPr marL="41112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Siswa dan mahasiswa mengembangkan software sebagai bagian dari tugas pendidikan.</a:t>
            </a:r>
            <a:endParaRPr b="0" lang="en-US" sz="2200" spc="-1" strike="noStrike">
              <a:solidFill>
                <a:srgbClr val="000000"/>
              </a:solidFill>
              <a:latin typeface="Century Schoolbook"/>
            </a:endParaRPr>
          </a:p>
          <a:p>
            <a:pPr marL="41112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matir software mengembangkan software sebagai bagian hobi </a:t>
            </a:r>
            <a:endParaRPr b="0" lang="en-US" sz="2200" spc="-1" strike="noStrike">
              <a:solidFill>
                <a:srgbClr val="000000"/>
              </a:solidFill>
              <a:latin typeface="Century Schoolbook"/>
            </a:endParaRPr>
          </a:p>
          <a:p>
            <a:pPr marL="41112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Profesional dalam teknik, ekonomi, manajemen dan bidang lain mengembangkan produk software untuk membantu mereka dalam pekerjaannya seperti melakukan perhitungan, ringkasan penelitian, kegiatan penelitian dan lain sebagainya.</a:t>
            </a:r>
            <a:endParaRPr b="0" lang="en-US" sz="2200" spc="-1" strike="noStrike">
              <a:solidFill>
                <a:srgbClr val="000000"/>
              </a:solidFill>
              <a:latin typeface="Century Schoolbook"/>
            </a:endParaRPr>
          </a:p>
          <a:p>
            <a:pPr marL="41112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Pengembang software profesional (sistem analis dan programmer) mengembangkan produk software sebagai seorang profesional karir yang berperan sebagai karyawan dalam sebuah software house dengan cara mengembangkan software dan memelihara software pada industri kecil, industri keuangan maupun organisasi lain.</a:t>
            </a:r>
            <a:endParaRPr b="0" lang="en-US" sz="2200" spc="-1" strike="noStrike">
              <a:solidFill>
                <a:srgbClr val="000000"/>
              </a:solidFill>
              <a:latin typeface="Century Schoolbook"/>
            </a:endParaRPr>
          </a:p>
          <a:p>
            <a:pPr marL="41112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c5c78"/>
                </a:solidFill>
                <a:latin typeface="Century Schoolbook"/>
              </a:rPr>
              <a:t>KARAKTERISTIK UTAMA LINGKUNGAN SQA</a:t>
            </a:r>
            <a:endParaRPr b="0" lang="en-US" sz="3200" spc="-1" strike="noStrike">
              <a:solidFill>
                <a:srgbClr val="575f6d"/>
              </a:solidFill>
              <a:latin typeface="Century Schoolbook"/>
            </a:endParaRPr>
          </a:p>
        </p:txBody>
      </p:sp>
      <p:sp>
        <p:nvSpPr>
          <p:cNvPr id="361" name=""/>
          <p:cNvSpPr txBox="1"/>
          <p:nvPr/>
        </p:nvSpPr>
        <p:spPr>
          <a:xfrm>
            <a:off x="380880" y="1523520"/>
            <a:ext cx="7772400" cy="495324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Kondisi perjanjian/kontrak</a:t>
            </a:r>
            <a:endParaRPr b="0" lang="en-US" sz="2000" spc="-1" strike="noStrike">
              <a:solidFill>
                <a:srgbClr val="000000"/>
              </a:solidFill>
              <a:latin typeface="Century Schoolbook"/>
            </a:endParaRPr>
          </a:p>
          <a:p>
            <a:pPr lvl="1" marL="639720" indent="-272880">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62110"/>
                </a:solidFill>
                <a:latin typeface="Century Schoolbook"/>
              </a:rPr>
              <a:t>Daftar pendefinisian fungsional dari software yang akan dikembangkan atau dipelihara terpenuhi</a:t>
            </a:r>
            <a:endParaRPr b="0" lang="en-US" sz="2000" spc="-1" strike="noStrike">
              <a:solidFill>
                <a:srgbClr val="000000"/>
              </a:solidFill>
              <a:latin typeface="Century Schoolbook"/>
            </a:endParaRPr>
          </a:p>
          <a:p>
            <a:pPr lvl="1" marL="639720" indent="-272880">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62110"/>
                </a:solidFill>
                <a:latin typeface="Century Schoolbook"/>
              </a:rPr>
              <a:t>Biaya proyek</a:t>
            </a:r>
            <a:endParaRPr b="0" lang="en-US" sz="2000" spc="-1" strike="noStrike">
              <a:solidFill>
                <a:srgbClr val="000000"/>
              </a:solidFill>
              <a:latin typeface="Century Schoolbook"/>
            </a:endParaRPr>
          </a:p>
          <a:p>
            <a:pPr lvl="1" marL="639720" indent="-272880">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62110"/>
                </a:solidFill>
                <a:latin typeface="Century Schoolbook"/>
              </a:rPr>
              <a:t>Jadwal Proyek</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Hubungan pelanggan dengan penyedia</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im kerja yang dibutuhkan </a:t>
            </a:r>
            <a:r>
              <a:rPr b="0" lang="en-US" sz="2000" spc="-1" strike="noStrike">
                <a:solidFill>
                  <a:srgbClr val="000000"/>
                </a:solidFill>
                <a:latin typeface="Wingdings"/>
                <a:ea typeface="Wingdings"/>
              </a:rPr>
              <a:t></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Kerjasama dan koordinasi dengan tim software lain</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nterface dengan sistem software lain</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c5c78"/>
                </a:solidFill>
                <a:latin typeface="Century Schoolbook"/>
              </a:rPr>
              <a:t>FAKTOR KEBUTUHAN TIM KERJA</a:t>
            </a:r>
            <a:endParaRPr b="0" lang="en-US" sz="3000" spc="-1" strike="noStrike">
              <a:solidFill>
                <a:srgbClr val="575f6d"/>
              </a:solidFill>
              <a:latin typeface="Century Schoolbook"/>
            </a:endParaRPr>
          </a:p>
        </p:txBody>
      </p:sp>
      <p:sp>
        <p:nvSpPr>
          <p:cNvPr id="363"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Kebutuhan penjadwalan waktu</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Kebutuhan akan keahlian yang berbed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Keinginan untuk mendapatkan keuntungan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c5c78"/>
                </a:solidFill>
                <a:latin typeface="Century Schoolbook"/>
              </a:rPr>
              <a:t>KERJASAMA DAN KOORDINASI DG TIM SOFTWARE LAIN</a:t>
            </a:r>
            <a:endParaRPr b="0" lang="en-US" sz="3200" spc="-1" strike="noStrike">
              <a:solidFill>
                <a:srgbClr val="575f6d"/>
              </a:solidFill>
              <a:latin typeface="Century Schoolbook"/>
            </a:endParaRPr>
          </a:p>
        </p:txBody>
      </p:sp>
      <p:sp>
        <p:nvSpPr>
          <p:cNvPr id="365" name=""/>
          <p:cNvSpPr txBox="1"/>
          <p:nvPr/>
        </p:nvSpPr>
        <p:spPr>
          <a:xfrm>
            <a:off x="457200" y="1752480"/>
            <a:ext cx="7772400" cy="23623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im pengembang software dan hardware lain dalam organisasi yang sama</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im pengembang software dan hardware organisasi provider lain</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im pengembang software dan hardware yang merupakan bagian dari tim proyek</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NTERFACE DG PL LAIN</a:t>
            </a:r>
            <a:endParaRPr b="0" lang="en-US" sz="3000" spc="-1" strike="noStrike">
              <a:solidFill>
                <a:srgbClr val="575f6d"/>
              </a:solidFill>
              <a:latin typeface="Century Schoolbook"/>
            </a:endParaRPr>
          </a:p>
        </p:txBody>
      </p:sp>
      <p:sp>
        <p:nvSpPr>
          <p:cNvPr id="36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terface inputan, dimana sistem PL  lain mengirimkan data ke sistem PL kit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terface output, dimana sistem PL kita mengirimkan data ke sistem PL lai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terface input dan output ke papan kontrol mesin, seperti dalam sistem kontrol kesehatan dan laboratorium.</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8T00:24:15Z</dcterms:created>
  <dc:creator>hero</dc:creator>
  <dc:description/>
  <dc:language>en-US</dc:language>
  <cp:lastModifiedBy>hero</cp:lastModifiedBy>
  <dcterms:modified xsi:type="dcterms:W3CDTF">2012-02-27T21:33:51Z</dcterms:modified>
  <cp:revision>32</cp:revision>
  <dc:subject/>
  <dc:title>1. Tantangan Perangkat Lunak</dc:title>
</cp:coreProperties>
</file>