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7F2-46F7-4BCC-99C4-F91923A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8D2-2CCA-4EB0-92E0-6C5F13DC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3D8-E27A-4F11-9806-6A2DC90B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844-1609-47E6-83C1-0340ACA6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7238-C5ED-4416-AEFE-9C727B2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47EC-6B26-4750-B2FF-13BD02ED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535B-D857-442E-90B5-0076F39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64D-D9E4-4E75-936B-DD71A765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90F-2D97-426A-95F9-9668B23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9ED8-ECB6-4293-A1FE-ECA4321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48C8-7790-4C72-B580-D6D10CDF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566-B488-4C72-AEB6-58910717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86E8-EDA7-43A6-8216-BE03CB7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B81F-F23E-492E-9A18-984EC86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3A93-B4FF-457E-B5B3-344DD24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333-4EA4-4CC0-B330-FE68A505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D9DF-E9BB-497D-827C-7A5B5D96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6EE9A-9BE5-4D1D-9BFA-9B005F36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FCE30-0994-4D28-9798-A2641864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438FC-8987-44BB-B514-3769EC9E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B7554-F625-4D69-951A-749560EB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18303-E8F0-4ADA-A090-F099E0E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85D-8CE8-4197-AEC5-7411DE0F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22511-C894-4238-95F9-C4FD355E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59119-B900-4BF6-A267-87FE3C81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9EBCA-7946-4B23-A1FC-4EF8619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1D57F-3A82-4C90-8E1D-36E065DC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FDBB9-1815-42AF-A35B-77ACED37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26216-AFF0-4533-8230-B395FAAB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C3C2E-5D0C-4917-A061-B08BCB51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FB3E0-5763-4C77-9BA9-3003239C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86816-8C85-4051-9935-F4134DD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B4C1B-AAA0-47DF-9427-962ADB9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9EF-12B6-4517-A3CC-FB89ACCA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F3583A-AE28-4AAC-9D66-4FB1AECA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4F2AD-8A26-4FC2-86C3-F54CF330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59642-C6CC-468B-998F-35BD7724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2DCB8-94D7-4CF6-AE08-3493D5A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A50B5-7398-4EE4-AE88-4F155A3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9C0E0-406F-4878-AFCF-9717DA78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C2F7E-DD91-4605-8015-E63C0663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67AA8A-A294-42A9-A235-0A335962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C3FA2-B274-46CA-9646-C7B3513D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9F9A97-40F7-4AA8-9DC7-5CB1990D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3C8-1071-4F6E-B30C-B8CB4360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C1765C-6410-4F1E-94F4-D6B04C56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12D22-BC28-472A-9EDE-7FD467D3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D551F1-19FD-4DCB-83A0-9A126ED2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BB03A-CCCE-42E3-AFBE-F89CA50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8F246-296C-48D5-A909-6A7C7166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B412F-AFD3-46A0-A920-19355F1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0C791-7DAE-4957-9DCF-4630FC7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7F6256-B0B5-483E-8A84-0510B112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76CDA-D09F-46A7-8235-2E05EED1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1F7E6-C3BB-475C-8983-B53B74C8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018-DA4F-45E1-AAB0-B014331E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C34E9-0B5A-4574-B70D-ABA9A2BD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693E7-16DC-4DBF-BA4C-C5468BFC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8579-0575-41A2-AD47-5DF16979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962F-C9AD-406D-AA1F-E37C769C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7AEA-7709-4362-9378-51D32140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0DC3-CDA7-4ECA-BFD9-68BCDF0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0400B-CC9F-4B43-B64A-24FD68EA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072D8-10A8-4F37-B6BA-1F9538AA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2535-82EE-4A8E-AE9C-D0C26644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FBB2-18F2-4FBE-AF73-199DC88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2AC-F036-4DB9-B588-A637291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C381C-0D53-49F2-B6A7-834E9E11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A3B6-26B2-43C0-93FC-08AB4833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2EB28-EC9D-489C-A3D7-870754CF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83DC7-E306-4D28-9309-62A133B1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E809D-9029-4D96-AED1-B5C948A7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BBC6C4-0643-46F2-9B86-B1E51C8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459D0-C86B-442C-94ED-2BD8B08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86872-0D3E-4BE1-9454-9B80993C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29F8E-1435-4905-9013-305997CB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1F802-E052-4C22-8D6A-FCE52A2A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934D-B31E-4D11-B801-079224F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37FC0-E674-44E1-AB83-F05516E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185AD-B262-4EBD-B90F-80A2C21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5B3EF-6FDC-4753-ADDE-6DAF3715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E7BCF-75CB-41F0-8D90-ED119B8B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08197-4411-4500-A7D5-1529D1FB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AF95-26FB-417F-89E6-BD6DFAD4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9C821-7CD0-4CD7-86F9-3EAEC9B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4E9E6-2ACF-4B8C-8B53-63059FA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CDF4-FB6D-44FA-AD45-E8F26CE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94E9-0618-4703-9BE5-D834E04F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E5F-573B-4C73-BFCA-5290CAC6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A9F2-DC4D-4F9A-BB69-C2F627AF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18439-D914-411F-85F9-053D6A4D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62402-BB5B-466E-83AF-80473944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11386-261B-4CAA-8B7A-B81DE0F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564E-9B38-4FE0-BABE-47823FA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CA64-3E32-4944-8F11-319B813A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AE5B-FC91-47BE-BE4C-B3B6401A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6249-02A4-4E57-AB6F-35AE393A9F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B465-DE9B-4455-B4E2-34D41C13398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5764-19D7-451E-9B0D-ED0F03B92BA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D6AB-329A-45C0-A2D8-3803CAA22D3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1A1-CFE1-47FA-9CAA-7D1608BAA9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5682-9F06-4097-8F69-F166BE35BD0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67AA-EEAA-4BAA-B0CB-15412D4C9BE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A08D-0BC7-4A84-A67F-22F865AC877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anajemen Kualitas Perangkat Lunak IT-PENS @2010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761760" y="41148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P7- PENYATUAN KEGIATAN KUALITAS DALAM SIKLUS HIDUP PROYEK SOFTWARE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odel Object Oriented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rcRect l="3124" t="27000" r="51876" b="22001"/>
          <a:stretch/>
        </p:blipFill>
        <p:spPr>
          <a:xfrm>
            <a:off x="914400" y="1676520"/>
            <a:ext cx="69343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2. Faktor-faktor Jaminan Kualitas dalam Proses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  Pengembang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butuhan akan seorang perencana jaminan kualitas dalam sebuah proyek untuk menentukan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ata jenis kegiatan yang diperlukan dalam sebuah proy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egiatan untuk masing-masing jaminan kualitas 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akt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pe dari kegiatan jaminan kualitas yang diterapk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apa yang melakukan kegiatan dan sumber daya yang diperluk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umber daya yang diperlukan untuk menghilangkan cacat dan mengenalkan perubaha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3. Verifikasi, Validasi dan Kualifikasi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erifik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alid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ualifik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Rounded Rectangular Callout 3"/>
          <p:cNvSpPr/>
          <p:nvPr/>
        </p:nvSpPr>
        <p:spPr>
          <a:xfrm>
            <a:off x="4114800" y="1219320"/>
            <a:ext cx="4495680" cy="1752480"/>
          </a:xfrm>
          <a:prstGeom prst="wedgeRoundRectCallout">
            <a:avLst>
              <a:gd name="adj1" fmla="val -90537"/>
              <a:gd name="adj2" fmla="val -15296"/>
              <a:gd name="adj3" fmla="val 16667"/>
            </a:avLst>
          </a:prstGeom>
          <a:solidFill>
            <a:srgbClr val="7030a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ses mengevaluasi sebuah sistem atau komponen  untuk menentukan apakah produk dari sebuah fase pengembangan memuaskan dibandingkan dengan kondisi yang dibebankan pada awal f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ular Callout 4"/>
          <p:cNvSpPr/>
          <p:nvPr/>
        </p:nvSpPr>
        <p:spPr>
          <a:xfrm>
            <a:off x="4114800" y="3124080"/>
            <a:ext cx="4495680" cy="1600200"/>
          </a:xfrm>
          <a:prstGeom prst="wedgeRoundRectCallout">
            <a:avLst>
              <a:gd name="adj1" fmla="val -90962"/>
              <a:gd name="adj2" fmla="val -72023"/>
              <a:gd name="adj3" fmla="val 16667"/>
            </a:avLst>
          </a:prstGeom>
          <a:solidFill>
            <a:srgbClr val="0070c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ses mengevaluasi sebuah sistem atau komponen selama atau sampai akhir dari proses pengembangan untuk menentukan apakah hal ini memenuhi persyaratan khu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ounded Rectangular Callout 5"/>
          <p:cNvSpPr/>
          <p:nvPr/>
        </p:nvSpPr>
        <p:spPr>
          <a:xfrm>
            <a:off x="1371600" y="5029200"/>
            <a:ext cx="4495680" cy="1066680"/>
          </a:xfrm>
          <a:prstGeom prst="wedgeRoundRectCallout">
            <a:avLst>
              <a:gd name="adj1" fmla="val -32060"/>
              <a:gd name="adj2" fmla="val -157439"/>
              <a:gd name="adj3" fmla="val 16667"/>
            </a:avLst>
          </a:prstGeom>
          <a:solidFill>
            <a:srgbClr val="c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Proses yang digunakan untuk menentukan apakah sebuah sistem atau komponen cocok untuk operasional yang diguna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4. Model SQA Menghilangkan cacat secara efektif dan mengurangi biay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5. Ringkas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odologi Pengembangan Software Klasik dan lainny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ktor-faktor Jaminan Kualitas dalam Proses Pengemba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erifikasi, Validasi dan Kualifikas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del SQA Menghilangkan cacat secara efektif dan mengurangi biay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ingkas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Kita diharapkan mampu :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nggambarkan ragam model pengembangan software dan mendiskusikan perbedaan diantara ny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njelaskan pertimbangan yang mempengaruhi intensitas penerapan kegiatan penjaminan kualit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njelaskan perbedaan aspek dari sisi verifikasi, validasi dan kualifikasi yang tergabung dalam kegiatan penjaminan kualita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nggambarkan model perencanaan SQA yang menghapuskan cacat, ketidakefektifan dan besarnya biaya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njelaskan segala kemungkinan penggunaan model tersebu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1. Metodologi Pengembangan Software Klasik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    dan lainnya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del Software Development Life Cycle (SDLC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del Prototyp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del Spir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del Object Orien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odel Software Development Life Cycle (SDLC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59" name="Group 2"/>
          <p:cNvGrpSpPr/>
          <p:nvPr/>
        </p:nvGrpSpPr>
        <p:grpSpPr>
          <a:xfrm>
            <a:off x="762120" y="2590920"/>
            <a:ext cx="7314840" cy="1294920"/>
            <a:chOff x="762120" y="2590920"/>
            <a:chExt cx="7314840" cy="1294920"/>
          </a:xfrm>
        </p:grpSpPr>
        <p:sp>
          <p:nvSpPr>
            <p:cNvPr id="360" name="Rectangle 3"/>
            <p:cNvSpPr/>
            <p:nvPr/>
          </p:nvSpPr>
          <p:spPr>
            <a:xfrm>
              <a:off x="762120" y="2618280"/>
              <a:ext cx="167796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efinisi Kebutuh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2960640" y="2612520"/>
              <a:ext cx="102636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nali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4700880" y="2612520"/>
              <a:ext cx="135612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erancang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692760" y="2590920"/>
              <a:ext cx="135612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Kod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6720840" y="3444480"/>
              <a:ext cx="1356120" cy="34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sting Si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4711320" y="3339000"/>
              <a:ext cx="1356120" cy="53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Installasi &amp; Konvers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2603520" y="3349080"/>
              <a:ext cx="1356120" cy="536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perasional &amp; Pemelihara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7" name="AutoShape 10"/>
            <p:cNvCxnSpPr/>
            <p:nvPr/>
          </p:nvCxnSpPr>
          <p:spPr>
            <a:xfrm>
              <a:off x="2439720" y="2790720"/>
              <a:ext cx="520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11"/>
            <p:cNvCxnSpPr/>
            <p:nvPr/>
          </p:nvCxnSpPr>
          <p:spPr>
            <a:xfrm>
              <a:off x="4018680" y="2800800"/>
              <a:ext cx="6930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12"/>
            <p:cNvCxnSpPr/>
            <p:nvPr/>
          </p:nvCxnSpPr>
          <p:spPr>
            <a:xfrm>
              <a:off x="6103440" y="2784960"/>
              <a:ext cx="521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13"/>
            <p:cNvCxnSpPr/>
            <p:nvPr/>
          </p:nvCxnSpPr>
          <p:spPr>
            <a:xfrm>
              <a:off x="7388640" y="2970000"/>
              <a:ext cx="1080" cy="459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1" name="AutoShape 14"/>
            <p:cNvCxnSpPr/>
            <p:nvPr/>
          </p:nvCxnSpPr>
          <p:spPr>
            <a:xfrm flipH="1">
              <a:off x="6041160" y="3606840"/>
              <a:ext cx="71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2" name="AutoShape 15"/>
            <p:cNvCxnSpPr/>
            <p:nvPr/>
          </p:nvCxnSpPr>
          <p:spPr>
            <a:xfrm flipH="1">
              <a:off x="3967560" y="3616920"/>
              <a:ext cx="710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25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odel </a:t>
            </a:r>
            <a:br>
              <a:rPr sz="32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rototyping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9375" t="28001" r="65001" b="20003"/>
          <a:stretch/>
        </p:blipFill>
        <p:spPr>
          <a:xfrm>
            <a:off x="4038480" y="762120"/>
            <a:ext cx="38102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odel Prototyping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untungan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ses pengembangan lebih cep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enghemat sumber daya (orang-har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bih baik dalam memenuhi kebutuhan dan mengurangi resiko kegagalan proye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bih mudah dan cepat memahami sistem bar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rugian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urang fleksibel dan adaptasi terhadap perubahan dan penambah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erkurangnya persiapan terhadap kejadian yang tidak terdug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Model Spira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3" descr="spiral.png"/>
          <p:cNvPicPr/>
          <p:nvPr/>
        </p:nvPicPr>
        <p:blipFill>
          <a:blip r:embed="rId1"/>
          <a:stretch/>
        </p:blipFill>
        <p:spPr>
          <a:xfrm>
            <a:off x="1600200" y="1447920"/>
            <a:ext cx="5668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Proses Iterasi dalam Model Spiral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ecana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alisa resiko dan pemecahan ulang masala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egiatan keteknikan berdasarkan tahapan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ancang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o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stallasi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lease produ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aluasi pelanggan : komentar, perubahan dan penambahan kebutuhan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5:39:42Z</dcterms:created>
  <dc:creator>yudo</dc:creator>
  <dc:description/>
  <dc:language>en-US</dc:language>
  <cp:lastModifiedBy>hero</cp:lastModifiedBy>
  <dcterms:modified xsi:type="dcterms:W3CDTF">2010-06-18T01:54:36Z</dcterms:modified>
  <cp:revision>125</cp:revision>
  <dc:subject/>
  <dc:title>Slide 1</dc:title>
</cp:coreProperties>
</file>