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A7F3-DBA9-4F1A-A132-22139EB7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B02-5344-4092-98E0-1A571334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8A15-8110-4247-9545-E1EEFB9A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11D-D61E-40A6-9436-294293E4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C46A-8A0F-4AFF-8309-4A54ADB8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9DBE-3738-4850-B38D-D9DDE6E7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29F2-C6A5-44BF-AC24-566BD25A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6A63-14CA-47E8-AA0A-4CE4D7C4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16BA-CF9E-4A52-AA2B-5313992C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FDD1-2EF0-4747-A261-7F6C78FF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6BFB-C7F7-4E28-A203-227B36FD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E8C-5D4C-4CC5-88A0-4E7E86AA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A643-5467-41A3-8D00-C81FE09F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FEEA-FDB6-4073-868E-F315C01D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B2B2-E151-472F-8A9C-61B41BCC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8E36-01FA-4D70-90DA-4412EE52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4EFB-B7F7-4EBC-95E8-41323290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C425E-9CD5-42CC-B1B5-38F0D459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8017D-D588-4643-A0A3-878A81C9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02EF6-E934-4272-B275-C4DDC9EE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23509-3EC1-458F-9859-C5D207EB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C56AF-9BBC-4E52-A348-2FC12943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1AC-C94B-44C3-A4C2-A1E64915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8216C-82E6-4ECE-A6AB-D288C660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56B1B-1D90-4903-ADCE-CF8EE195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B4585-B19A-4DC5-99EE-77ED4AD3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18531-D261-4FF1-A08E-1F1956D6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6DABD-DC6F-4054-8302-2907435D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ABA02-D21A-4536-805C-0C8BB53E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9FB51-232A-4674-85DB-F59D6FB1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C3F63-0EF0-4893-9FD9-CBC9A35A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575BC-0278-42BC-A732-BFD1D423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464AB1-81B5-415D-9B70-6152D0E8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45B-1874-425C-B44E-617D6767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17B4B-16B7-4F8C-90E3-ED44386A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2F3147-264A-42B1-B4B1-FD1D6AA4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93CB0-F717-448C-A553-01782D7C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89770-FF4E-4BA5-B87B-A5F8E87E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E3ED2-3A84-4625-A187-C4716D97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4E2C9-D206-4063-B99E-E7784DD5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A5481-1DE5-4492-BCB4-EC13EB64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E2B21-85A1-481C-9BF5-241153AC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F667BE-F635-44CF-8973-84B04BA8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B6C78-2A2B-4ED2-AF28-82B365A2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F00D-2244-4EA9-8923-FA1D1D3D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B7B805-75D0-4F3F-871E-C1881305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19D63-EDD9-4F7F-A2B9-BC174AB6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0A654-F3DF-473D-B9F0-804776E4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4DCEA-A477-446B-9532-039B0599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CF604-1301-491A-A7A2-3E2C68D2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DBA79-3767-4AD5-B373-78FCD0FB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379F7-E832-479C-B5EC-B356B6AB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72CC5-1554-45FE-9C2F-350A85F4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B0088-28C2-4411-8428-7035E78C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313DD7-FDFE-44B4-A6E7-B02A43EB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7EA-8991-4159-AF2C-F567C9D6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A7526-A2E0-437A-B67E-F01DD56A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903DB-3FD2-4FE8-9E8F-C2108B3A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EBB57-6114-4703-9143-417AA071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1869C-382A-4D02-872D-B1EEBBDA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2A920-B03F-4165-BC08-7FC7BF45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710DB-D582-4A45-B70F-0D51F0F0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76D14-3066-4C2F-BA8B-89550A38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967F6-F640-4F9B-823E-54D22B98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52976-C916-4AA9-80BB-1EE363BE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C09E5-2FC9-418C-AC6C-30F09704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DC8-A96B-42AA-8B22-C20046E8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5AE2D-9B6D-4652-9B08-199D0229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7F387-C4B2-4BA0-9715-4D862593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F5005-0F42-4ADC-9816-CA78E1D9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0C3D0-EC2F-4F1C-A9F6-C88D9C3B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0647D-8F83-430B-BC10-A671DC5E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0C067-4BDF-4DCE-9E44-2EE08EA7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A66D60-1DA4-45E2-B6DF-9BBEF86C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986E60-863C-45F1-9C79-DE1C8E9E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23C34-ABB0-4B08-B660-AD1BF2C0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8C2DE1-61EF-4FAA-B09B-2D08C3DB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5B2-15B9-42B0-AD49-DA431B50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96688-285B-4A21-9F7D-7A52BDBF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D4183-AD28-4783-9379-8A2BB915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775A83-BC2B-4D7F-880B-6E45D00E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AB738A-CF53-4984-82B5-83ADBB25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74C646-F1E1-4556-B7D8-21DA599D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1968D-E578-4A6E-840C-2CBE7DCC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7C5C7-A45B-48F7-B3FB-1631325D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7C697-4C26-4E35-9605-CFF10DE8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A3C38-219E-4D27-936C-8CDE286D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5BC4A-FB58-42E0-AF0B-A5F86D26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C20A-18EC-4F1A-85FB-280A7A49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33E91-E7BA-460D-9B6D-131EF6F2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78B42-7BCB-447B-BBDF-4AF51FFF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17DE1-B5E4-4F24-B109-D2ED9B78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5EF1D-9B3E-4650-B5D9-CB5B1E43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2ABC3-4043-48F3-9CB1-57DFDA69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2620C-4CAA-49A6-A752-F4517052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CB432-C0BC-4125-99B1-1C454CD1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3D43-748D-4FD7-943A-747F9423856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F7B5-BC7C-477D-92AE-24BB6CD397E8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2859-5EEE-46FC-829D-722AB725E802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870C-DB6A-43F0-8353-98B9D2A5ABB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2197-8E3F-4A57-94B9-C16ACD86680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6CD7-E3EA-4F70-B94E-DC0AE25CB5FA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0877-EFE6-4F23-AD6A-E0CB3BC0EBD5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453D-147D-44D4-AC5D-57278087861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Manajemen Kualitas Perangkat Lunak IT-PENS @2010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P11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KEPASTIAN KUALITAS KOMPONEN PEMELIHARAAN SOFTWARE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su Pokok Pemeliharaan Softwa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600200"/>
            <a:ext cx="853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ondasi untuk melakukan pemeliharaan yang berkualitas tingg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omponen kualitas software pada tahap sebelum pemelihara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ol SQA untuk melakukan pemeliharaan perbaik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ol SQA untuk melakukan pemeliharaan peningkatan fungsion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frastruktur tool SQA untuk perbaikan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ngelolaan pengawasan tool SQA untuk pemeliharaan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ujuan 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data komponen pemeliharaan software dan menjelaskan perbedaanny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jelaskan dasar dari pemeliharaan yang berkualitas tingg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ggambarkan dan menjelaskan komponen pre-pemeliharaan software berkualit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data tool infrastruktur yang mendukung pemeliharaan jaminan kualit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data tool pengelolaan untuk mengendalikan kualitas pemeliharaan software dan menjelaskan tingkat kepentinganny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Tipe Komponen Pemeliharaan Servic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7" name="Picture 3" descr="orang1.png"/>
          <p:cNvPicPr/>
          <p:nvPr/>
        </p:nvPicPr>
        <p:blipFill>
          <a:blip r:embed="rId1"/>
          <a:stretch/>
        </p:blipFill>
        <p:spPr>
          <a:xfrm>
            <a:off x="457200" y="3962520"/>
            <a:ext cx="2362320" cy="2103480"/>
          </a:xfrm>
          <a:prstGeom prst="rect">
            <a:avLst/>
          </a:prstGeom>
          <a:ln w="0">
            <a:noFill/>
          </a:ln>
        </p:spPr>
      </p:pic>
      <p:sp>
        <p:nvSpPr>
          <p:cNvPr id="358" name="Vertical Scroll 7"/>
          <p:cNvSpPr/>
          <p:nvPr/>
        </p:nvSpPr>
        <p:spPr>
          <a:xfrm>
            <a:off x="2209680" y="1600200"/>
            <a:ext cx="6705720" cy="2590920"/>
          </a:xfrm>
          <a:prstGeom prst="verticalScroll">
            <a:avLst>
              <a:gd name="adj" fmla="val 125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orrective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Adaptive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unctionality Improvement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Kesulitan user  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0" name="Content Placeholder 3" descr="images2.jpg"/>
          <p:cNvPicPr/>
          <p:nvPr/>
        </p:nvPicPr>
        <p:blipFill>
          <a:blip r:embed="rId1"/>
          <a:stretch/>
        </p:blipFill>
        <p:spPr>
          <a:xfrm>
            <a:off x="7134120" y="5105520"/>
            <a:ext cx="2009880" cy="15048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7"/>
          <p:cNvSpPr/>
          <p:nvPr/>
        </p:nvSpPr>
        <p:spPr>
          <a:xfrm>
            <a:off x="304920" y="1676520"/>
            <a:ext cx="8534160" cy="2286000"/>
          </a:xfrm>
          <a:prstGeom prst="rect">
            <a:avLst/>
          </a:prstGeom>
          <a:solidFill>
            <a:srgbClr val="dd8047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kesalahan k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kesalahan dokumentasi, buku pand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dokumentasi yang tidak lengk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user tidak mempunyai pengetahuan yang cukup terhadap si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kesalahan dalam menggunakan dok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05:39:42Z</dcterms:created>
  <dc:creator>yudo</dc:creator>
  <dc:description/>
  <dc:language>en-US</dc:language>
  <cp:lastModifiedBy>hero</cp:lastModifiedBy>
  <dcterms:modified xsi:type="dcterms:W3CDTF">2010-12-27T11:18:32Z</dcterms:modified>
  <cp:revision>157</cp:revision>
  <dc:subject/>
  <dc:title>Slide 1</dc:title>
</cp:coreProperties>
</file>