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101-A440-447F-8101-4B565794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6E41-5693-4251-A2F2-73BF16F7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9B6C-D740-4564-ABA2-091CEFEB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B4F-5AC3-45B8-AB8C-1333AB41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019B-9995-4A8F-8F67-9D8FF228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4C21-106F-436F-8B78-9DBC96A4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6617-6DA2-4CAF-9DDF-7C257797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87B9-5392-4B09-B736-AD31BACA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D2BC-1769-4BA6-81A0-549B39A7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C345-6580-4DE0-BFE2-06D2E591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1914-EE7F-4C8B-91B1-382844F9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000-9457-459E-AA3C-A30A925B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BCA9-0271-40B3-9ED6-4F450C58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DF53-F691-4FD9-B387-B5CFB551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A005-9B6C-4F9C-983D-EDAE6A1B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E2EF-334E-42A8-AA1D-5C21AF55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9B36-428B-4002-BB15-20268E44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CF95E-67BE-4B9B-9E8F-F3272F3E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3B54A-C6C9-4A47-A6B0-C6E07165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DCCA5-71A8-4D3B-9A93-26507ACF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A0415-A92F-4CCA-8B4C-DD58EBC2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44C9C-34BF-4FD7-BA4C-3762DCF9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C44E-2B45-4B0D-AA4A-B745B577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ED4E2-4BC3-4F0A-81C9-4E2CB2B3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ADD05-384E-4441-8EA4-55B42961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50C59-6E5A-43B5-AD23-2609DD5B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FA02E-27D2-4D93-AF54-D0A916DE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2F8E6-BBC7-4F43-A775-080D5D99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7FFEC-866A-4756-834C-8136456A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122B8-2E74-4202-99CE-063E8D17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6AE973-95BF-4A72-AB1E-689E3068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458070-B094-4EB0-8740-342794B9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4BB714-85BF-4FD3-9798-1142E731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E3A-157A-4531-A4F4-EF937172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CAA355-A071-4531-B509-43382B55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E79CE6-E6F3-4F86-9D39-97CF05ED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A9DFBC-CE26-47B7-935C-24D8FDFC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40B59F-16B4-4166-B967-E7EF47C4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D21100-B981-4990-A04C-119F746A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BBCFE0-714C-402B-B966-5D0978D8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DFBC3B-2403-4A2B-948C-5CD8F14E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E1948D-AB9B-4A4D-9515-F8574DA5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C786C0-3241-497A-A617-F36C400C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39C0F8-E234-4A46-A339-3B14474B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49A-16B6-4107-A774-FC437B50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570BCE-9B72-4EBE-A23E-022B42E0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9A6A3-5E74-4C0E-9E8D-1D60B952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15AE55-4BE1-4AC4-A468-C70BFB4D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FF5E56-6AED-4BD7-9940-323E5735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04C9C-BB9C-4D60-A1EF-4D273EF6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AA4EEA-C700-4DFE-85D0-F637BFEA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7AF427-864B-429A-852D-D4063F95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AB01D6-7741-48F7-B098-2A03C6B7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BE741B-4A65-4F15-9518-0FDAF3F2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4E82F0-2C79-414E-B2EE-3DE14E38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15B-F63B-4D5D-98FF-3B398C8A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E3268B-AF07-46EF-A77B-1F67F92E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7AC70-AC6C-4AE5-936A-F55C4C48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5AFA8-990A-43D5-B4B2-B43270FE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8134A-7035-4DA2-9F5E-074142F7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98793-150F-4955-8948-DBE1CBB1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DD6D6-B4B9-461C-903E-166B2326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F62DC-CCCD-4FB8-AFDA-6D56CFCE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CC6C9-2202-4492-AAD5-20D8117C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FE533-FA88-48D7-B91A-F8425FC3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DD3CF-ADD5-42AF-9536-B0E8D4A2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D1AE-DF44-4ADA-8E93-5D5015D1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E92F6-6C5F-4428-AC2F-414EF36E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2A958-FA79-4FA3-89C2-3EF7D3F5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65B7C-1A68-4E56-9E0F-8F27C471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7B08F8-2003-4FEE-878A-084BC7A2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9D0C05-7985-46C0-A05D-403801E4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7B8D18-CA32-4626-9E3B-7442FEC6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54ED13-B6ED-42B2-9701-AB20D540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BDBB47-30FD-4073-A0C4-7F3491D6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96AA16-FF5C-4EA2-A2E9-F1CABFF9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37A059-3640-470C-AE4D-9F2F2370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C284-C6B0-4DD8-AD13-ABBC5C6C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31DB47-4755-4873-931A-D89EB1C2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26111F-0ED2-4A20-8395-F842DA8B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683A7F-05EE-4B6F-ADFA-1B651802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BC2C78-6956-4B2B-B192-C4BAA7B2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213800-8069-4636-AE17-1668E9A3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47D84-6C7C-4684-B0E0-24D7D051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63E35-FF29-43F8-B017-E34711DF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F757C-F359-4362-BCCA-68AD35EF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1EAE1-57D7-48C0-BB44-E65114FE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735D2-0E80-4DC6-8D34-6BBC4052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E3B-9BC9-47BB-AA7B-55586F7E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C58BE-40B7-4806-A90C-20F2C692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D0CDC-FDD3-41E2-8816-004D2609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FF7EE-9A2E-42D6-A7B1-549731A5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30D47-D8F4-49B0-BF06-1F59B4E5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B76B0-98B5-42C9-94D7-C9E95C18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9E7C9-153F-401D-AE8F-6899ADD8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9EBC1-1E35-4F45-B1FA-73FF0FC7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7C6E-9429-4DBF-9C2C-B8A53F46F32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2E3C-1125-4592-A81D-2B9C761B260D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6EC0-D6C3-419C-9291-E9742F615F2B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2B87-6D88-4011-B5C6-D7590662F4C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F4C9-AB6D-4ACA-8676-E57539E5F48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9CBA-5CBC-4434-8318-E904A657237E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101E-E86B-43D9-9117-253EC241F67F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DB39-7589-47E8-BDF5-DA75EB2FD30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Manajemen Kualitas Perangkat Lunak IT-PEN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666880" y="41148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P4- KOMPONEN SISTEM SQA</a:t>
            </a:r>
            <a:br>
              <a:rPr sz="3600"/>
            </a:b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5.  Pengelolaan Komponen SQA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ndukung pengawasan dan pengelolaan proyek software dan layanan pemeliharaa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omponen ini melibatkan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engawasan kemajuan proyek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engukuran kualitas softwa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iaya kualitas softwa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engawasan Kemajuan Proy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nggunaan sumber day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njadwala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egiatan pengelolaan resik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mbiayaa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engukuran Kualitas Softwa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ualitas pengembangan software dan kegiatan pemeliharaa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duktivitas tim pengemba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duktivitas help desk dan tim pemeliharaa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ingkat kepadatan kesalahan softwa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nyimpangan jadw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6. Standar SQA, Sistem Sertifikasi dan Komponen Penilaia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erdapat peralatan/entitas eksternal yang menawarkan kesempatan lain untuk mencapai kepastian kualitas softwar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ujuan utama dari kelas ini 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nggunaan pengetahuan internasional secara profesion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ningkatan koordinasi dengan sistem kualitas  dari organisasi lai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valuasi tujuan secara profesional dan pengukuran terhadap pencapaian sistem kualitas organisasi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tandar SQ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andar Pengelolaan Kualit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I CMM standar penilaia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andar ISO 9001 dan ISO 9003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andar Proses Proye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EEE 1012 standa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SO/IEC 12207 standa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7. Organisasi SQA – Komponen Manusia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ujuan utama dari organisasi SQA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ngembangkan dan mendukung penerapan komponen SQ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ndeteksi penyimpangan dari prosedur SQA dan metodolog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mberikan saran perbaikan terhadap komponen SQA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Pengelolaan Peran di SQA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rupakan tanggung jawab dari top manajemen, manajemen departemen, manajemen proyek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ngelolaan meliputi 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endefinisikan kebijakan kualit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indakan lanjutan yang efektif terhadap penerapan kebijakan kualit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engalokasikan sumber daya yang cukup untuk menerapkan kebijakan kuali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enetapan staff yang memada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indak lanjut dari pemenuhan prosedur jaminan kualita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olusi  terhadap penjadwalan, pembiayaan dan kesulitan hubungan dengan pelanggan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Unit SQA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emiliki beberapa peran utama diantaranya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ersiapan program kuantitas tahuna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Konsultasi dengan staf internal dan para ahli dari luar terhadap persoalan kualitas softwar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elaksanakan audit internal jaminan kualit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Kepemimpinan dari beberapa komite penjaminan kualit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Dewan Pengawas, Komite dan Forum SQA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im penyelesaian persoalan atau unit permasalahan kualitas kecil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emeriksa penyimpangan terhadap prosedur kualitas dan petunjuk kerj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emprakarsai peningkatan dalam komponen SQ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elaporan ke unit SQA tentang persoalan kualitas dalam tim mereka atau unitny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ersoalan utama terkait komit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Jalan keluar terhadap permasalahan kualitas softwa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nalisis persoalan dan kesalahan pencatatan  diikuti dengan prakarsa pembenahan dan pencegahan yang sesua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akarsa dan pengembangan prosedur dan petunjuk baru, mengupdate materi bar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akarsa dan pengembangan komponen SQA baru dan peningkatan komponen yang ada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utli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stem SQA dan Arsitektur SQ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4160" indent="-4341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omponen Pra-Proye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4160" indent="-4341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omponen Siklus Hidup Proyek Softwa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4160" indent="-4341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omponen Infrastruktur Pencegah Kesalaha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4160" indent="-4341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ngelolaan Komponen SQ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4160" indent="-4341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adar SQA, Sistem Sertifikasi dan Komponen Penilaia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4160" indent="-4341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rganisasi SQA (Komponen Manusia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4160" indent="-4341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timbangan Pedoman Pembuatan Sistem Organisasi SQ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4160" indent="-4341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ingkasa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34160" indent="-434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4160" indent="-434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34160" indent="-434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8.  Pertimbangan Pedoman Pembuatan Sistem Organisasi SQA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ipe dari pelanggan pengembangan softwa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ipe dari pelanggan pemeliharaan softwa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isaran ruang lingkup produ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kuran dari organisas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rajat kerjasama dengan organisasi la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ngoptimalkan tujua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Pertimbangan terhadap layanan proyek dan pemeliharaan proyek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evel kompleksitas dan kesulitan softwar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ingkat pengalaman staf terhadap teknologi  proyek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erluasan penggunaan ulang software dalam proyek baru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9. Ringkasa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rtimbangan utama yang mempengaruhi komponen SQA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880920" indent="-51408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ertimbangan Organisas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880920" indent="-51408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ertimbangan Layanan Proyek dan Pemeliharaa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880920" indent="-51408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ertimbangan Profesional Staf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Pertimbangan Organisasi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ipe para pelanggan dari pengembangan softwa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ipe para pelanggan dari pemeliharaan softwa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ange produ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kuran dari organisas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rajat dan kealamian kerjasama dengan organisasi lain menyelesaikan proyek yang berhubunga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ngoptimalkan tujua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entagon 3"/>
          <p:cNvSpPr/>
          <p:nvPr/>
        </p:nvSpPr>
        <p:spPr>
          <a:xfrm>
            <a:off x="0" y="1523880"/>
            <a:ext cx="8686800" cy="533520"/>
          </a:xfrm>
          <a:custGeom>
            <a:avLst/>
            <a:gdLst>
              <a:gd name="textAreaLeft" fmla="*/ 0 w 8686800"/>
              <a:gd name="textAreaRight" fmla="*/ 8687160 w 86868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37" y="0"/>
                </a:lnTo>
                <a:lnTo>
                  <a:pt x="21600" y="10800"/>
                </a:lnTo>
                <a:lnTo>
                  <a:pt x="2093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entagon 4"/>
          <p:cNvSpPr/>
          <p:nvPr/>
        </p:nvSpPr>
        <p:spPr>
          <a:xfrm>
            <a:off x="0" y="2057400"/>
            <a:ext cx="8763120" cy="53352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43" y="0"/>
                </a:lnTo>
                <a:lnTo>
                  <a:pt x="21600" y="10800"/>
                </a:lnTo>
                <a:lnTo>
                  <a:pt x="209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b391">
              <a:alpha val="50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entagon 5"/>
          <p:cNvSpPr/>
          <p:nvPr/>
        </p:nvSpPr>
        <p:spPr>
          <a:xfrm>
            <a:off x="0" y="2590920"/>
            <a:ext cx="8686800" cy="457200"/>
          </a:xfrm>
          <a:custGeom>
            <a:avLst/>
            <a:gdLst>
              <a:gd name="textAreaLeft" fmla="*/ 0 w 8686800"/>
              <a:gd name="textAreaRight" fmla="*/ 8687160 w 8686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32" y="0"/>
                </a:lnTo>
                <a:lnTo>
                  <a:pt x="21600" y="10800"/>
                </a:lnTo>
                <a:lnTo>
                  <a:pt x="210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95b22">
              <a:alpha val="50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entagon 6"/>
          <p:cNvSpPr/>
          <p:nvPr/>
        </p:nvSpPr>
        <p:spPr>
          <a:xfrm>
            <a:off x="0" y="3048120"/>
            <a:ext cx="8686800" cy="380880"/>
          </a:xfrm>
          <a:custGeom>
            <a:avLst/>
            <a:gdLst>
              <a:gd name="textAreaLeft" fmla="*/ 0 w 8686800"/>
              <a:gd name="textAreaRight" fmla="*/ 8687160 w 86868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26" y="0"/>
                </a:lnTo>
                <a:lnTo>
                  <a:pt x="21600" y="10800"/>
                </a:lnTo>
                <a:lnTo>
                  <a:pt x="211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78279">
              <a:alpha val="50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entagon 7"/>
          <p:cNvSpPr/>
          <p:nvPr/>
        </p:nvSpPr>
        <p:spPr>
          <a:xfrm>
            <a:off x="0" y="3429000"/>
            <a:ext cx="8763120" cy="76212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1" y="0"/>
                </a:lnTo>
                <a:lnTo>
                  <a:pt x="21600" y="10800"/>
                </a:lnTo>
                <a:lnTo>
                  <a:pt x="2066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0cac4">
              <a:alpha val="50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entagon 8"/>
          <p:cNvSpPr/>
          <p:nvPr/>
        </p:nvSpPr>
        <p:spPr>
          <a:xfrm>
            <a:off x="0" y="4191120"/>
            <a:ext cx="8610480" cy="457200"/>
          </a:xfrm>
          <a:custGeom>
            <a:avLst/>
            <a:gdLst>
              <a:gd name="textAreaLeft" fmla="*/ 0 w 8610480"/>
              <a:gd name="textAreaRight" fmla="*/ 8610480 w 8610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27" y="0"/>
                </a:lnTo>
                <a:lnTo>
                  <a:pt x="21600" y="10800"/>
                </a:lnTo>
                <a:lnTo>
                  <a:pt x="210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baba">
              <a:alpha val="50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Pertimbangan Layanan Proyek dan Pemeliharaan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vel kompleksitas dan kesulitan softwa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ingkat pengalaman staf terhadap teknologi proye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luasan penggunaan ulang software dalam proyek bar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ertimbangan Profesional Staf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Kualifikasi tingkat profesionalita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ingkat pengetahuan terhadap anggota ti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Pendahuluan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antangan terhadap Kualitas Softwa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pa maksud Kualitas Softwa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aktor-faktor penentu Kualitas Softwa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omponen Sistem Jaminan Kualitas Softwa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omponen Pra Proye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omponen SQA dalam Siklus Hidup Proye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omponen Infrastruktur Jaminan Kualitas Softwa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omponen Pengelolaan Kualitas Softwa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andard, Sertifikasi dan Assessm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rganisasi untuk Jaminan Kualit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1. Sistem SQA dan Arsitektur SQA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lasifikasi Komponen SQ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879480" indent="-51444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Komponen kualitas pra proyek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879480" indent="-51444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Komponen kualitas siklus hidup proyek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879480" indent="-51444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Komponen infrastruktur pencegah kesalahan dan perbaika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879480" indent="-51444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Komponen pengelolaan kualitas softwa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879480" indent="-51444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Komponen standarisasi, sertifikasi dan penilaian SQ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879480" indent="-51444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Komponen manusia – mengorganisasi SQ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Komponen SQA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9" name="Content Placeholder 3" descr="komponenSQA.png"/>
          <p:cNvPicPr/>
          <p:nvPr/>
        </p:nvPicPr>
        <p:blipFill>
          <a:blip r:embed="rId1"/>
          <a:stretch/>
        </p:blipFill>
        <p:spPr>
          <a:xfrm>
            <a:off x="762120" y="1752480"/>
            <a:ext cx="7431120" cy="4268880"/>
          </a:xfrm>
          <a:prstGeom prst="rect">
            <a:avLst/>
          </a:prstGeom>
          <a:ln w="0">
            <a:noFill/>
          </a:ln>
        </p:spPr>
      </p:pic>
      <p:sp>
        <p:nvSpPr>
          <p:cNvPr id="360" name="Rounded Rectangle 3"/>
          <p:cNvSpPr/>
          <p:nvPr/>
        </p:nvSpPr>
        <p:spPr>
          <a:xfrm>
            <a:off x="4038480" y="2209680"/>
            <a:ext cx="1676520" cy="3812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ounded Rectangle 4"/>
          <p:cNvSpPr/>
          <p:nvPr/>
        </p:nvSpPr>
        <p:spPr>
          <a:xfrm>
            <a:off x="2514600" y="2286000"/>
            <a:ext cx="137160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ounded Rectangle 5"/>
          <p:cNvSpPr/>
          <p:nvPr/>
        </p:nvSpPr>
        <p:spPr>
          <a:xfrm>
            <a:off x="3352680" y="2743200"/>
            <a:ext cx="167652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entagon 6"/>
          <p:cNvSpPr/>
          <p:nvPr/>
        </p:nvSpPr>
        <p:spPr>
          <a:xfrm>
            <a:off x="228600" y="358128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40" y="0"/>
                </a:lnTo>
                <a:lnTo>
                  <a:pt x="21600" y="10800"/>
                </a:lnTo>
                <a:lnTo>
                  <a:pt x="194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entagon 7"/>
          <p:cNvSpPr/>
          <p:nvPr/>
        </p:nvSpPr>
        <p:spPr>
          <a:xfrm rot="10800000">
            <a:off x="7086240" y="373356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57" y="0"/>
                </a:lnTo>
                <a:lnTo>
                  <a:pt x="21600" y="10800"/>
                </a:lnTo>
                <a:lnTo>
                  <a:pt x="200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ounded Rectangle 8"/>
          <p:cNvSpPr/>
          <p:nvPr/>
        </p:nvSpPr>
        <p:spPr>
          <a:xfrm>
            <a:off x="2133720" y="4648320"/>
            <a:ext cx="152388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ounded Rectangle 9"/>
          <p:cNvSpPr/>
          <p:nvPr/>
        </p:nvSpPr>
        <p:spPr>
          <a:xfrm>
            <a:off x="4952880" y="4648320"/>
            <a:ext cx="106704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ounded Rectangle 10"/>
          <p:cNvSpPr/>
          <p:nvPr/>
        </p:nvSpPr>
        <p:spPr>
          <a:xfrm>
            <a:off x="6781680" y="4648320"/>
            <a:ext cx="106704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ounded Rectangle 11"/>
          <p:cNvSpPr/>
          <p:nvPr/>
        </p:nvSpPr>
        <p:spPr>
          <a:xfrm>
            <a:off x="3505320" y="5410080"/>
            <a:ext cx="2133360" cy="30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2. Komponen Pra-Proyek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igunakan untuk meningkatkan persiapan berdasarkan prakarsa awal proye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erdiri dari 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Review kontrak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Perencanaan Pengembangan dan Mutu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Rectangular Callout 3"/>
          <p:cNvSpPr/>
          <p:nvPr/>
        </p:nvSpPr>
        <p:spPr>
          <a:xfrm>
            <a:off x="5257800" y="1295280"/>
            <a:ext cx="3886200" cy="2057400"/>
          </a:xfrm>
          <a:prstGeom prst="wedgeRectCallout">
            <a:avLst>
              <a:gd name="adj1" fmla="val -105495"/>
              <a:gd name="adj2" fmla="val 37949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Klarifikasi kebutuhan pelang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Review jadwal proy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Perkiraan kebutuhan sumber da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Evaluasi keahlian staf yang diusul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Evaluasi kemampuan pelangg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Evaluasi resiko tahap pengemban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ular Callout 4"/>
          <p:cNvSpPr/>
          <p:nvPr/>
        </p:nvSpPr>
        <p:spPr>
          <a:xfrm>
            <a:off x="304920" y="4495680"/>
            <a:ext cx="5943600" cy="2133720"/>
          </a:xfrm>
          <a:prstGeom prst="wedgeRectCallout">
            <a:avLst>
              <a:gd name="adj1" fmla="val 3263"/>
              <a:gd name="adj2" fmla="val -91546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Jad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Personil yang berpengaru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umber daya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Persoalan organisasi : anggota tim, sub kontraktor &amp; mi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etodologi proy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ool pengemban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Penggunaan kembali modul software/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Callout 6"/>
          <p:cNvSpPr/>
          <p:nvPr/>
        </p:nvSpPr>
        <p:spPr>
          <a:xfrm>
            <a:off x="2057400" y="4191120"/>
            <a:ext cx="7086600" cy="2438280"/>
          </a:xfrm>
          <a:prstGeom prst="wedgeEllipseCallout">
            <a:avLst>
              <a:gd name="adj1" fmla="val -5458"/>
              <a:gd name="adj2" fmla="val -75490"/>
            </a:avLst>
          </a:prstGeom>
          <a:solidFill>
            <a:srgbClr val="dd8047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Kualitas yang dituju (istilah teruk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Kriteria awal dan akhir dari tiap tahapan proy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Daftar uji pemeriksaan, uji coba dan verifikasi /validasi l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3. Komponen Siklus Hidup Proyek Softwar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view / Pemeriksaa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ndapat para ahl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ji coba softwa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meliharaan softwa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epastian kualitas dari sub kontraktor, supplier dan mitr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Review/Pemeriksaa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lakukan review terhadap bermacam-macam dokumen : rancangan laporan, dokumen uji coba software, perencanaan installasi software dan panduan softwar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ibagi menjadi dua kategori 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Rancangan pemeriksaan formal (Design Review Formal)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Peer review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Rectangular Callout 3"/>
          <p:cNvSpPr/>
          <p:nvPr/>
        </p:nvSpPr>
        <p:spPr>
          <a:xfrm>
            <a:off x="457200" y="4191120"/>
            <a:ext cx="8686800" cy="2361960"/>
          </a:xfrm>
          <a:prstGeom prst="wedgeRectCallout">
            <a:avLst>
              <a:gd name="adj1" fmla="val 11875"/>
              <a:gd name="adj2" fmla="val -8003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Bagian penting dari dokumen membutuhkan persetujuan f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Pengembang hanya dapat melakukan tahap berikutnya jika doku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elah disetuju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RF diperlukan dan dijadwalkan untuk mengambil tempat sesudah semu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proses dilengkapi dan diperiksa oleh komite yang mewaki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Callout 4"/>
          <p:cNvSpPr/>
          <p:nvPr/>
        </p:nvSpPr>
        <p:spPr>
          <a:xfrm>
            <a:off x="533520" y="4343400"/>
            <a:ext cx="8076960" cy="2514600"/>
          </a:xfrm>
          <a:prstGeom prst="wedgeEllipseCallout">
            <a:avLst>
              <a:gd name="adj1" fmla="val -30300"/>
              <a:gd name="adj2" fmla="val -63541"/>
            </a:avLst>
          </a:prstGeom>
          <a:solidFill>
            <a:srgbClr val="ffff0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emeriksaan dokumen secara singkat, bab/bag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ari sebuah laporan, code modul soft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emeriksaan dapat menggunakanformulir d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eberapa metode s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4. Komponen Infrastruktur untuk Mencegah Error dan Sarana Perbaikan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omponen SQA tentang hal ini terdiri dari 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osedur dan petunjuk kerj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emplate dan daftar pemeriksaa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elatihan berkelanjutan dan sertifikas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indakan pencegahan dan perbaika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engelolaan konfiguras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engawasan dokumentas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05:39:42Z</dcterms:created>
  <dc:creator>yudo</dc:creator>
  <dc:description/>
  <dc:language>en-US</dc:language>
  <cp:lastModifiedBy>hero</cp:lastModifiedBy>
  <dcterms:modified xsi:type="dcterms:W3CDTF">2011-03-25T00:50:05Z</dcterms:modified>
  <cp:revision>54</cp:revision>
  <dc:subject/>
  <dc:title>Slide 1</dc:title>
</cp:coreProperties>
</file>