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269-D74D-4A92-93AD-FBAB297C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ED7-092C-41F1-8A9D-398C9B6C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EE74-0220-4EA4-A401-031EF576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89F-8860-4A0A-B07C-47785184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A06C-2BB5-43DB-8D3C-FEFE7533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BD22-2AC1-4EE3-9BC7-C40663C7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9DDD-A4F4-4074-9063-1A1E9FB6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8308-414D-4DEE-AC57-CD9A41FF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35B5-B699-4E2C-999A-2461298F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8DD9-3E34-4B53-88F2-99587617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2AF4-F6CA-4D55-9909-58E2411C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828-8EB4-47C9-8A34-F6877F06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FF79-DDE0-4281-B558-A8205FAA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19BA-CD98-4A65-B48C-6687C5BA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8BFD-4891-4381-8D38-E3933A0C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20D8-7CED-4DA8-8390-BA4E3BD4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F687-B818-4E78-806C-8A8E4D60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BF8C35-5906-40D2-B978-6801B189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4BDBB-6788-4FCC-BDCE-7838190D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DF0AB-3FEE-4DCB-9B62-3A2F7B18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200BF-2C9F-4CF5-921C-6CECE0FC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3D5DD-9D7D-43A7-9260-73B1D965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41C3-ADEB-4265-9D23-A825026A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E9DE7-DD9E-4176-83B4-E4F964E4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2F66F-360E-4621-AD9F-BFA33F1D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B8A87-BF7B-4591-A447-04D9BC34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92A57-B2D1-40CC-BCF1-B9AAA1C7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E0B21-CC5C-47D6-BF21-8B3BEBB2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17743-0506-4089-8B3A-F290B834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8D32B-1C5E-49FE-8EA5-D82F242D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BD11A0-19E3-4184-8781-BD8B8C5A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BFA86-C410-4638-B43A-72534D6E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996D6B-7512-421D-988F-5A3128F0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6A6-B3D7-48FC-B512-0750643B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CFC6F5-26D2-495A-9608-6BEC59BE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B7710-231A-469B-A15B-A44E2BA0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A1D4E5-165E-4BBB-B513-BB8B6C06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431136-993E-4746-B592-FB5181B6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395075-C966-4D1C-8319-C48C58F5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EA97B1-F72E-4A47-866F-ABE277B2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E7421A-6472-4D73-8587-185090DE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F5A8F-E0F5-4A08-9AD9-1E2F3C8F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012B3-F8FD-41E3-8701-AEB092F1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9815B-B1E4-42C2-8E0D-201859C8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92E0-FB9B-4A84-9C03-F9DDB190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4CF914-7427-4334-93CC-DF38EFFD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E5B475-83F3-4F45-9FE1-C13CFB5E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C96323-BFE4-48A0-B61D-355FFDCF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3CA26E-81BC-4129-9042-8DD825C4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E2B7DA-3EE3-4994-A73C-9A8032D8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5030EC-9D4E-42C2-8A2B-A5A925DE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D42757-35D5-496D-9716-2FA1C40C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B430F-6B95-442E-B25B-D03A0562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635A01-7A7A-4520-B0C6-6A0E6643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D20AE-3BDC-40E0-A88D-EB93A70B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36F-7270-455E-AF9B-B8B58B53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290C8-1A54-4FF1-A0A0-841906F4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A69F2-A70F-48D4-96E8-C84C04C7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BCC82-2A11-4ACB-8FEE-DD9FE571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E44FB-B983-464F-980D-47DF7350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CE97A-5BEA-43A0-9F97-AF3241A2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24973-4E6B-461B-BF5F-F1C7F38C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291A2-58C3-4210-A0CC-79B180FF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5244D-E8FB-4F3B-B210-382B345E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A0812-14E2-4F6E-9F04-DDF270E2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B2AA7-0C01-4AA7-8D4E-11DF4D8B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434-412A-4E40-8BB2-85939C52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DBCA0-AFF0-4B17-AACC-F89098E1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D2128-8661-4216-BFD9-9899D1AF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D4F8B-64A9-4E6C-A18F-2EEBA0AC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6BA144-8B4C-4217-8D24-ACA37A68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595C0B-04A0-4E5A-B214-615FCA2E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1043EE-91C7-456F-9728-BC47318F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B1D6AC-7EC0-4671-BD4A-62CCADAF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CCD9CE-038B-4271-A783-B038B6F6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3D6F86-7984-47A8-BF05-60A0897A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6E17D8-237A-4A0F-B374-D1F26CC6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05B-B99B-461C-8675-9CC81BFF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50F32C-AD6E-4116-A630-3BC8B3E0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C495B-6D40-4F2C-AF1B-6D300474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5564D6-7E17-4A74-A487-F2480FF9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8C89A1-A8CC-4735-A10B-28F67C37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F381E4-7E98-4F7E-8024-BA259727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89C98-F076-472D-9B03-F71E1FC5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1545F-11A9-44E5-AEFB-82B5E196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74F08-75E6-4BF1-AB37-9CB91A7C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15955-E6C9-43B7-9EFF-B31DAD19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04A95-C994-4A92-A68F-86EEBADC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C8D-DA0C-4272-90F4-72470E78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4FEBD-5EAF-41DD-9E9B-7F331EC5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799BA-D50D-4C45-AA1D-24FB4A51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D9601-64AE-4FD3-BCEF-4D6859B2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407DA-FF1E-4A14-91B1-98E12A0F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74CD6-AD07-403B-836F-7256FE53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168B8-8107-41CA-9CEB-6BF1DF0E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D5C34-2B88-4418-ABCD-27E54E27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6163-D72B-4239-A786-2F1AA1E0E03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4DD2-73E9-4A33-AC92-1EC8F7A60AEE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B42F-8FCE-4192-828E-3A6D09F47B54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F6AC-44EA-4AEC-B950-E21806F608B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C893-4948-4456-9940-3B07786AE69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55DE-83A7-4B06-A69D-D01305101534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EFE5-035F-4ACD-8427-08E1B66B4FC8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983E-C00A-4B66-9D43-B9294C4B8C9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Manajemen Kualitas Perangkat Lunak IT-PENS @2010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761760" y="41148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P10- PENERAPAN TESTING SOFTWARE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erencanaan Testing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1" name="Content Placeholder 3" descr="images2.jpg"/>
          <p:cNvPicPr/>
          <p:nvPr/>
        </p:nvPicPr>
        <p:blipFill>
          <a:blip r:embed="rId1"/>
          <a:stretch/>
        </p:blipFill>
        <p:spPr>
          <a:xfrm>
            <a:off x="4114800" y="5353200"/>
            <a:ext cx="2009880" cy="1504800"/>
          </a:xfrm>
          <a:prstGeom prst="rect">
            <a:avLst/>
          </a:prstGeom>
          <a:ln w="0">
            <a:noFill/>
          </a:ln>
        </p:spPr>
      </p:pic>
      <p:sp>
        <p:nvSpPr>
          <p:cNvPr id="382" name="Oval Callout 5"/>
          <p:cNvSpPr/>
          <p:nvPr/>
        </p:nvSpPr>
        <p:spPr>
          <a:xfrm>
            <a:off x="3124080" y="1066680"/>
            <a:ext cx="6019920" cy="2743200"/>
          </a:xfrm>
          <a:prstGeom prst="wedgeEllipseCallout">
            <a:avLst>
              <a:gd name="adj1" fmla="val -12018"/>
              <a:gd name="adj2" fmla="val 112324"/>
            </a:avLst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Apa yang di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ource mana yang akan di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apa yang melakukan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Dimana dilakukan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Kapan mengakhiri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Callout 6"/>
          <p:cNvSpPr/>
          <p:nvPr/>
        </p:nvSpPr>
        <p:spPr>
          <a:xfrm>
            <a:off x="0" y="3048120"/>
            <a:ext cx="3809880" cy="2514600"/>
          </a:xfrm>
          <a:prstGeom prst="wedgeEllipseCallout">
            <a:avLst>
              <a:gd name="adj1" fmla="val 66958"/>
              <a:gd name="adj2" fmla="val 47879"/>
            </a:avLst>
          </a:prstGeom>
          <a:solidFill>
            <a:srgbClr val="b95b2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Uni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Integration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ystem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pa yang ditest ??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pakah benar melaksanakan testing unit untuk sebuah modul yang terdiri dari 98% software reused 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pakah unit test memang diperintahkan untuk   menangani sebuah modul sederhana yang berulang-ulang digunakan oleh team developer dalam kurun waktu 3 tahun 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agian modul mana yang dijadikan unit testing 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tegrasi yang mana yang di test 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apa yang melakukan testing 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ntegration testing, khususnya unit testing dilakukan oleh tim pengembang softwa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ystem testing, biasanya dilakukan oleh tim testing independen (internal atau external konsultan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alam sistem software yang besar, tim testing dapat direkrut untuk melakukan testing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oftware Test Plan (STP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533520" y="1752480"/>
          <a:ext cx="8076960" cy="1401840"/>
        </p:xfrm>
        <a:graphic>
          <a:graphicData uri="http://schemas.openxmlformats.org/drawingml/2006/table">
            <a:tbl>
              <a:tblPr/>
              <a:tblGrid>
                <a:gridCol w="469800"/>
                <a:gridCol w="760716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ngkup dari t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ket software yang akan ditest (nama, versi dan perbaik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okumen yang menyediakan dasar dari perencanaan testing (nama dan versi dari tiap dokume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533520" y="3429000"/>
          <a:ext cx="8076960" cy="2103480"/>
        </p:xfrm>
        <a:graphic>
          <a:graphicData uri="http://schemas.openxmlformats.org/drawingml/2006/table">
            <a:tbl>
              <a:tblPr/>
              <a:tblGrid>
                <a:gridCol w="469800"/>
                <a:gridCol w="760716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ngkungan t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pat t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ardware dan konfigurasi organisasi yang dibutuhk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rtisipasi organis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ang yang berkedudukan/berpengaruh yang dibutuhk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siapan dan pelatihan yang diperlukan oleh tim t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oftware Test Plan (STP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304920" y="1676520"/>
          <a:ext cx="8458200" cy="3154320"/>
        </p:xfrm>
        <a:graphic>
          <a:graphicData uri="http://schemas.openxmlformats.org/drawingml/2006/table">
            <a:tbl>
              <a:tblPr/>
              <a:tblGrid>
                <a:gridCol w="492120"/>
                <a:gridCol w="7966080"/>
              </a:tblGrid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incian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dentifikasi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ujuan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ferensi berseberangan terhadap rancangan dokumen yang relevan dan kebutuhan doku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elas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testing (unit, integrasi, siste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ebutuhan kasus tes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ebutuhan kusus (pengukuran terhadap response time, kebutuhan keaman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a yang akan dicat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oftware Test Plan (STP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457200" y="1752480"/>
          <a:ext cx="8305920" cy="1578240"/>
        </p:xfrm>
        <a:graphic>
          <a:graphicData uri="http://schemas.openxmlformats.org/drawingml/2006/table">
            <a:tbl>
              <a:tblPr/>
              <a:tblGrid>
                <a:gridCol w="484200"/>
                <a:gridCol w="7821720"/>
              </a:tblGrid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adwal testing (untuk masing-masing test/ group test) termasuk perkiraan wakt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si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baikan kesala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sting mund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emplate Laporan Test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80880" y="1905120"/>
          <a:ext cx="8458200" cy="2743200"/>
        </p:xfrm>
        <a:graphic>
          <a:graphicData uri="http://schemas.openxmlformats.org/drawingml/2006/table">
            <a:tbl>
              <a:tblPr/>
              <a:tblGrid>
                <a:gridCol w="492120"/>
                <a:gridCol w="7966080"/>
              </a:tblGrid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sting identifikasi, tempat, jadwal dan partisi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sting identifikasi software (nama, versi, perbaik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okumen yang menyediakan dasar testing (nama, versi tiap dokum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mpat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aktu mulai dan selesai untuk tiap bagian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nggota tim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rtisipan yang l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aktu yang diperlukan untuk melakukan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emplate Laporan Test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380880" y="1981080"/>
          <a:ext cx="8229600" cy="990720"/>
        </p:xfrm>
        <a:graphic>
          <a:graphicData uri="http://schemas.openxmlformats.org/drawingml/2006/table">
            <a:tbl>
              <a:tblPr/>
              <a:tblGrid>
                <a:gridCol w="479520"/>
                <a:gridCol w="7750080"/>
              </a:tblGrid>
              <a:tr h="33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ngkungan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nfigurasi hardware dan perusaha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siapan dan Pelatihan sebelum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457200" y="3429000"/>
          <a:ext cx="8077320" cy="2208240"/>
        </p:xfrm>
        <a:graphic>
          <a:graphicData uri="http://schemas.openxmlformats.org/drawingml/2006/table">
            <a:tbl>
              <a:tblPr/>
              <a:tblGrid>
                <a:gridCol w="469800"/>
                <a:gridCol w="7607520"/>
              </a:tblGrid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asil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dentifikasi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asil kasus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dentifikasi kasus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dentifikasi te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asil nya : OK atau Ga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ika gagal: gambaran yang jelas dari hasilnya/ permasala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emplate Laporan Test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457200" y="1905120"/>
          <a:ext cx="8305920" cy="946080"/>
        </p:xfrm>
        <a:graphic>
          <a:graphicData uri="http://schemas.openxmlformats.org/drawingml/2006/table">
            <a:tbl>
              <a:tblPr/>
              <a:tblGrid>
                <a:gridCol w="484200"/>
                <a:gridCol w="7821720"/>
              </a:tblGrid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bel kesimpulan untuk total keseluruhan kesalahan, sebarannya dan tipe ny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esimpulan dari testing yang dilakuk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bandingan dengan hasil testing sebelumny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457200" y="3505320"/>
          <a:ext cx="8153280" cy="1892160"/>
        </p:xfrm>
        <a:graphic>
          <a:graphicData uri="http://schemas.openxmlformats.org/drawingml/2006/table">
            <a:tbl>
              <a:tblPr/>
              <a:tblGrid>
                <a:gridCol w="474840"/>
                <a:gridCol w="7678440"/>
              </a:tblGrid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ejadian khusus dan usulan/pendapat te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ejadian khusus dan tanggapan yang tidak terperkirak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nemuan permasalahan selama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sulan untuk perubahan lingkungan testing termasuk persiapan tes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ubahan untuk perubahan atau perbaikan dalam prosedur testing dan file kasus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utli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600200"/>
            <a:ext cx="853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nggambarkan proses dari perencanaan dan perancangan tes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ndiskusikan sumber dari kasus testing beserta keuntungan dan kerugianny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ndata tipe utama dari testing software otomat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ndiskusikan keuntungan dan kerugian dari testing otomatis yang terkomputerisasi sebagai perbandingan dengan testing manu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njelaskan penerapan testing versi alpha dan beta dan mendiskusikan keuntungan dan kerugianny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oses Test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ses perencanaan, perancangan dan performa dari testing ditangani seluruhnya dalam proses pengembangan softwa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egiatan diawali menjadi beberapa fase, diantaranya 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iawali perancangan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iakhiri software diinstall pada sisi pelangga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ambaran Proses Testing (1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57" name="Group 2"/>
          <p:cNvGrpSpPr/>
          <p:nvPr/>
        </p:nvGrpSpPr>
        <p:grpSpPr>
          <a:xfrm>
            <a:off x="2514600" y="1905120"/>
            <a:ext cx="3123720" cy="3733560"/>
            <a:chOff x="2514600" y="1905120"/>
            <a:chExt cx="3123720" cy="3733560"/>
          </a:xfrm>
        </p:grpSpPr>
        <p:sp>
          <p:nvSpPr>
            <p:cNvPr id="358" name="Rectangle 3"/>
            <p:cNvSpPr/>
            <p:nvPr/>
          </p:nvSpPr>
          <p:spPr>
            <a:xfrm>
              <a:off x="2514600" y="1905120"/>
              <a:ext cx="3100320" cy="80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enentukan Metodologi T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4"/>
            <p:cNvSpPr/>
            <p:nvPr/>
          </p:nvSpPr>
          <p:spPr>
            <a:xfrm>
              <a:off x="2531160" y="3367080"/>
              <a:ext cx="310032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erencanakan T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5"/>
            <p:cNvSpPr/>
            <p:nvPr/>
          </p:nvSpPr>
          <p:spPr>
            <a:xfrm>
              <a:off x="2521440" y="4283280"/>
              <a:ext cx="3100320" cy="48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erancang T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6"/>
            <p:cNvSpPr/>
            <p:nvPr/>
          </p:nvSpPr>
          <p:spPr>
            <a:xfrm>
              <a:off x="2538000" y="5157720"/>
              <a:ext cx="3100320" cy="48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elakukan T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2" name="AutoShape 7"/>
            <p:cNvCxnSpPr/>
            <p:nvPr/>
          </p:nvCxnSpPr>
          <p:spPr>
            <a:xfrm>
              <a:off x="4005000" y="2710440"/>
              <a:ext cx="1080" cy="65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3" name="AutoShape 8"/>
            <p:cNvCxnSpPr/>
            <p:nvPr/>
          </p:nvCxnSpPr>
          <p:spPr>
            <a:xfrm>
              <a:off x="4005000" y="3847680"/>
              <a:ext cx="1080" cy="43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AutoShape 9"/>
            <p:cNvCxnSpPr/>
            <p:nvPr/>
          </p:nvCxnSpPr>
          <p:spPr>
            <a:xfrm>
              <a:off x="4005000" y="4764240"/>
              <a:ext cx="1080" cy="393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1. Isu Utama dalam Menentukan Metodologi Testing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038120" y="3429000"/>
            <a:ext cx="4645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trategi testing softwa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3" descr="orang1.png"/>
          <p:cNvPicPr/>
          <p:nvPr/>
        </p:nvPicPr>
        <p:blipFill>
          <a:blip r:embed="rId1"/>
          <a:stretch/>
        </p:blipFill>
        <p:spPr>
          <a:xfrm>
            <a:off x="0" y="2666880"/>
            <a:ext cx="3048120" cy="271476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4"/>
          <p:cNvSpPr/>
          <p:nvPr/>
        </p:nvSpPr>
        <p:spPr>
          <a:xfrm>
            <a:off x="3962520" y="16765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sesuaian testing degan standar kualitas software yang dibutuh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Straight Arrow Connector 6"/>
          <p:cNvCxnSpPr/>
          <p:nvPr/>
        </p:nvCxnSpPr>
        <p:spPr>
          <a:xfrm flipV="1">
            <a:off x="1447920" y="2133000"/>
            <a:ext cx="2210400" cy="5338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0" name="Straight Arrow Connector 7"/>
          <p:cNvCxnSpPr/>
          <p:nvPr/>
        </p:nvCxnSpPr>
        <p:spPr>
          <a:xfrm>
            <a:off x="1599840" y="2971800"/>
            <a:ext cx="2134440" cy="45792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oh standar kualitas proy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ket software untuk RS membutuhkan standar kualitas software yang tertinggi, berdasarkan kemungkinan konsekuensi akibat rusaknya softwa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ket software untuk menangani masukan informasi dari program pelatihan karyawan dapat dilakukan dengan standar kualitas menengah karena diasumsikan kegagalam dalam uang relatif keci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ket software yang dikembangkan untuk perusahaan yang besar membutuhkan standar kualtias yang lebih tinggi ketimbang paket software yang dicustom terutama untuk pelanggan tungg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Klasifikasi kerusakan akibat kesalahan softwar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57200" y="1828800"/>
          <a:ext cx="8153280" cy="3962520"/>
        </p:xfrm>
        <a:graphic>
          <a:graphicData uri="http://schemas.openxmlformats.org/drawingml/2006/table">
            <a:tbl>
              <a:tblPr/>
              <a:tblGrid>
                <a:gridCol w="4113360"/>
                <a:gridCol w="4039920"/>
              </a:tblGrid>
              <a:tr h="4381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erusakan terhadap pelanggan atau pengg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pe Kerusak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t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74628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mbahayakan keselamatan kehidupan manu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istem monitoring pasien rumah sak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istem persenjataan luar angka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mpengaruhi penggunaan fungsi organisasi yang penting dan tidak ada sistem penggan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njualan sistem e-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istem inventori multi-ware 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rakibat terhadap fungsi dari sebuah perusahaan 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alatan elektronik yang terkomputeris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Klasifikasi Kerugian terhadap Pengembang Softwar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609480" y="1905120"/>
          <a:ext cx="8153640" cy="4205160"/>
        </p:xfrm>
        <a:graphic>
          <a:graphicData uri="http://schemas.openxmlformats.org/drawingml/2006/table">
            <a:tbl>
              <a:tblPr/>
              <a:tblGrid>
                <a:gridCol w="3310200"/>
                <a:gridCol w="4843440"/>
              </a:tblGrid>
              <a:tr h="4284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erugian terhadap pengembang softw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pe Kerusak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t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390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erugian keuan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erusakan yang mengakibatkan luka fis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erusakan yang dibayar oleh organisasi karena mall fung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ngembalian uang pembelian dari pelang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mbiayaan yang tinggi terhadap perbaikan si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erugian non kuantitat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mpak terhadap penjualan mendat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ngurangi penjualan saat i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enentuan Strategi Testing Softwar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8" name="Picture 3" descr="orang1.png"/>
          <p:cNvPicPr/>
          <p:nvPr/>
        </p:nvPicPr>
        <p:blipFill>
          <a:blip r:embed="rId1"/>
          <a:stretch/>
        </p:blipFill>
        <p:spPr>
          <a:xfrm>
            <a:off x="457200" y="3962520"/>
            <a:ext cx="2362320" cy="2103480"/>
          </a:xfrm>
          <a:prstGeom prst="rect">
            <a:avLst/>
          </a:prstGeom>
          <a:ln w="0">
            <a:noFill/>
          </a:ln>
        </p:spPr>
      </p:pic>
      <p:sp>
        <p:nvSpPr>
          <p:cNvPr id="379" name="Vertical Scroll 7"/>
          <p:cNvSpPr/>
          <p:nvPr/>
        </p:nvSpPr>
        <p:spPr>
          <a:xfrm>
            <a:off x="3200400" y="1447920"/>
            <a:ext cx="5943600" cy="3886200"/>
          </a:xfrm>
          <a:prstGeom prst="verticalScroll">
            <a:avLst>
              <a:gd name="adj" fmla="val 125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Apakah menggunakan big bang,/ incr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Bagian mana yang seharusnya di test menggunakan white box testin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Bagian mana yang seharusnya dilakukan berdasarkan testing otoma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05:39:42Z</dcterms:created>
  <dc:creator>yudo</dc:creator>
  <dc:description/>
  <dc:language>en-US</dc:language>
  <cp:lastModifiedBy>hero</cp:lastModifiedBy>
  <dcterms:modified xsi:type="dcterms:W3CDTF">2010-12-20T11:21:19Z</dcterms:modified>
  <cp:revision>153</cp:revision>
  <dc:subject/>
  <dc:title>Slide 1</dc:title>
</cp:coreProperties>
</file>