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87E4-40A5-4176-A857-06A77498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75D-5474-495D-AD33-1F80D0F6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13B-0B5B-4045-A35E-701881CB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FE7-35BF-4C2F-BD46-697EDF93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E189-3632-4090-AEAB-B2CC835D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9B4C-8D64-49EC-90E8-826E91B1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E719-9C5A-408A-93A8-059D3848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72C7-DCAA-4240-9D00-0672E7B1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4111-6113-4878-8CF7-A7B9FF5A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4C26-EBD4-48D4-A33F-E62DC33F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8055-A1CD-4231-8468-DB7626C7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A11-BEA6-48EB-97A2-AD756654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18D4-2F7C-4FCB-8237-D6114A17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DDB0-A147-493E-B7F4-9BD4F3A9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0FA9-7DA2-4A65-8756-B9AE666A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E4F8-AC74-431B-916A-69AD9A1E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64E7-1FF7-42A2-B5AB-C86DF4CF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6BC4-08FA-48DD-A6AD-2CB518CC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B9D0-9193-4BEE-B92B-A4D6F330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C01B-C0A1-43D9-B20C-EC6BD775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FC36-6C3E-40F6-AA61-073493B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DBB4-857F-4A6A-AC33-895D27FB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443-7BAC-4698-8F52-F776C642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4380-B4FF-46D4-B6FA-22A088B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2147-D18C-460B-B32A-34529157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8F93-0409-40F6-97B8-1AA4E46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84252-3895-4963-A757-AF11D73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D73A9-E87B-4CBD-9420-3C749C06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913A3-D4F2-4F4B-8417-8F8B00C8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282FB-C258-460C-AA9F-A7D514FA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3E90-D0D0-477D-BC53-8C326291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5E83-A2E0-4E16-8EEE-F61C06CE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848E-B4EC-490D-B431-CE2DA4CC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122-2C92-41FD-AAA3-ABB0639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A9BB0-778E-4840-A2CC-116A31D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89C1-BA62-4D39-8157-1DCD52BB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0373-7DFC-455B-85DB-5A3D7142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BBF5-7B0C-4271-9ADE-514884A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5D49-D5EE-4A8D-ACDF-DEB7E6D0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931AD-41C6-4242-9F0B-4B226BA2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80BB-4492-42B9-B3BF-5CE2DA72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4CFEA-18C9-4C6C-B1A9-F4D1C223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ED2A4-69EC-4B61-ACA0-DEDB516E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F112-C23E-4DA3-9A91-9A82F865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0B8-DB7E-42AA-8A0D-A5DBA6D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9569-D542-450C-B8AD-E1EC973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743C0-E469-4914-91D8-8084742A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D963-5FBB-4531-B62B-5EB35B45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13F9-6B77-45DB-A198-385A3ED0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3C302-9140-40FE-A999-E72C73B2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08CC6-94DF-4D2D-A32D-43E4B639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23E5A-0A86-4011-88D8-FCF686D7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1CAF-4257-4D12-BDA5-0F2BFB07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C2DD-8FC6-498D-964B-B28DCA53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E931F-D3C8-47BB-9D56-3CD07CF2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0FAE-56FF-4059-A2AA-90B4DB5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319D-A791-4468-ADC5-9D28CD10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1DD-6987-499A-8F33-8C82AED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C34-3901-4090-B923-20E1A85C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20E-4C3B-4396-B0C8-C2F617D2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90A8-143B-4DCB-8FA7-416D59A7F66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7C0-475A-409B-BED7-654C67FC8F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F4D5-92BB-4E95-A3E7-A345AF51FE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9154-852E-4B6C-9FD8-9CD44B8FD2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4744-B821-427A-8B25-446997AB39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53341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Perpetua"/>
              </a:rPr>
              <a:t>PENS, maret 2011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0" y="1506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Manajemen Kualitas Perangkat Luna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aftar Is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antangan Kualitas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pa Maksud Kualitas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gam Faktor dalam Kualitas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omponen Sistem Jaminan Kualitas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ambaran Kontrak Ker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gembangan dan Perencanaan Kualit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yatuan Kegiatan Kualitas dalam Siklus Hidup Proye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injauan, Pemeriksa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rategi Testing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erapan Testing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57560" indent="-4575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mastikan Kualitas Komponen Pemeliharaan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aftar Is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emastikan Kualitas dari sisi Kontribusi Partisipan Lua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SE tools dan Pengaruhnya terhadap Proye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sedur dan Petunjuk Kerj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ukungan Peralatan terhadap Kualita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latihan dan Sertifikasi Karyaw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indakan Pencegahan dan Perbaik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gelolaan Konfiguras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gawasan  Dokumentas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gawasan Kemajuan Proye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434160" indent="-4341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ngukuran Kualitas Perangkat Luna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aftar Is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mbiayaan dari Perangkat Lunak Berkualit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 Pengelolaan Kualit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 Proses Proyek SQA dan Standar Perangkat Lunak dari IEE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ngelolaan dan Aturannya dalam Menjamin Kualitas Perangkat Luna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it SQA dan aktor lain dalam Sistem SQ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embagian Tugas Kelompok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Kelompok dibagi per sejumlah halama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23:38:43Z</dcterms:created>
  <dc:creator>hero</dc:creator>
  <dc:description/>
  <dc:language>en-US</dc:language>
  <cp:lastModifiedBy>hero</cp:lastModifiedBy>
  <dcterms:modified xsi:type="dcterms:W3CDTF">2011-02-28T00:21:45Z</dcterms:modified>
  <cp:revision>7</cp:revision>
  <dc:subject/>
  <dc:title>Slide 1</dc:title>
</cp:coreProperties>
</file>